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2.gif" ContentType="image/gif"/>
  <Override PartName="/ppt/media/image11.jpeg" ContentType="image/jpeg"/>
  <Override PartName="/ppt/media/chimes.wav" ContentType="audio/x-wav"/>
  <Override PartName="/ppt/media/image1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20.png" ContentType="image/png"/>
  <Override PartName="/ppt/media/image7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  <p:sldId id="319" r:id="rId75"/>
    <p:sldId id="320" r:id="rId76"/>
    <p:sldId id="321" r:id="rId77"/>
    <p:sldId id="322" r:id="rId78"/>
    <p:sldId id="323" r:id="rId79"/>
    <p:sldId id="324" r:id="rId80"/>
    <p:sldId id="325" r:id="rId81"/>
    <p:sldId id="326" r:id="rId82"/>
    <p:sldId id="327" r:id="rId83"/>
    <p:sldId id="328" r:id="rId84"/>
    <p:sldId id="329" r:id="rId85"/>
    <p:sldId id="330" r:id="rId86"/>
    <p:sldId id="331" r:id="rId8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slide" Target="slides/slide64.xml"/><Relationship Id="rId76" Type="http://schemas.openxmlformats.org/officeDocument/2006/relationships/slide" Target="slides/slide65.xml"/><Relationship Id="rId77" Type="http://schemas.openxmlformats.org/officeDocument/2006/relationships/slide" Target="slides/slide66.xml"/><Relationship Id="rId78" Type="http://schemas.openxmlformats.org/officeDocument/2006/relationships/slide" Target="slides/slide67.xml"/><Relationship Id="rId79" Type="http://schemas.openxmlformats.org/officeDocument/2006/relationships/slide" Target="slides/slide68.xml"/><Relationship Id="rId80" Type="http://schemas.openxmlformats.org/officeDocument/2006/relationships/slide" Target="slides/slide69.xml"/><Relationship Id="rId81" Type="http://schemas.openxmlformats.org/officeDocument/2006/relationships/slide" Target="slides/slide70.xml"/><Relationship Id="rId82" Type="http://schemas.openxmlformats.org/officeDocument/2006/relationships/slide" Target="slides/slide71.xml"/><Relationship Id="rId83" Type="http://schemas.openxmlformats.org/officeDocument/2006/relationships/slide" Target="slides/slide72.xml"/><Relationship Id="rId84" Type="http://schemas.openxmlformats.org/officeDocument/2006/relationships/slide" Target="slides/slide73.xml"/><Relationship Id="rId85" Type="http://schemas.openxmlformats.org/officeDocument/2006/relationships/slide" Target="slides/slide74.xml"/><Relationship Id="rId86" Type="http://schemas.openxmlformats.org/officeDocument/2006/relationships/slide" Target="slides/slide75.xml"/><Relationship Id="rId87" Type="http://schemas.openxmlformats.org/officeDocument/2006/relationships/slide" Target="slides/slide76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dt" idx="2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ftr" idx="2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 type="sldNum" idx="2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FAC82-8A59-4F9F-A091-DBBB8B253FC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840B4-3C86-441D-AD56-D6A8477A749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2E71C-615E-4410-8C74-34A862070F1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667BB-9951-4407-9708-42EED3A696A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D0111-A243-4FB2-9BCC-4AA165B2404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FEE7A-8EB3-42F3-8BCD-3E343721C51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48F81-F39E-484A-BEEA-468DC8DB06C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AFD40-263F-48F9-B270-8D3A2E134C4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4A3CF-765F-4755-A14B-4844A66048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8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84115-11BC-47C2-8485-9FAD35AB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520" y="16034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911786-E98D-4E84-8AB4-21008667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84E1F5-A3F7-4F38-A265-23DF750A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30004C-200C-4406-A377-39CAF262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3520" y="16034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8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0D155B-54A2-4FD3-8F9D-BBC9A1C8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352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3520" y="39668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EC502F-930F-4275-8F34-FC1959A2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352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8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5C146F-8870-4C79-AF54-CDCF821A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8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A22445-FA0B-4C98-9900-00E92BE9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52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8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3520" y="39668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9AFCBD-65AD-4508-B9CD-0788377C9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280" y="1603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1360" y="1603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8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280" y="39668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1360" y="39668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33E158-AC7C-429E-92F7-3E4FD3AA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8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68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87402-C513-4BB4-8ED7-15CF2913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3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3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8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68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68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1F2B2-B03B-40A8-A263-4B636E80A4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ECE3A-499C-4025-A04D-0BAFB608E5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34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73481-486D-4F04-849F-0C387E8F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20825-AEA3-4ED2-B680-EEA8ACF3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34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B1EF4-774C-4BD5-9514-86E51442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75F0E-9B8F-4F5B-A528-38F3FEBC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B601A-5972-4C08-8CEB-F5266A50E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34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8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FCBC3-FA14-49AF-A634-EA426857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34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E54C7-9BFB-4C8E-803B-F03E3C89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39668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39269-0ADE-4A05-808D-6FFF7A93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8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A8C77-5383-4CED-8E88-788B64AC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8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4CA6D-7977-44D3-8289-DDA2F9D6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8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520" y="39668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89AF3-6009-4198-A85A-89FF1548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603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1360" y="1603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8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9668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1360" y="39668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93B7B-A1DC-4F01-91B4-E69B77A568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E975-71BE-45C4-8199-7C0FB29A86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34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A665-12A3-4864-AE00-CFE7E6E9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F645-ACA7-45AD-A208-83B1DB3C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34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9072-9FEB-438F-A5D5-F122F504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C63C-CC9D-4A45-AFD4-9D990ADF5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26F07-CEF3-45BE-B0F7-D06F1C6C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C0BA-2B79-46EA-B052-86BCAF229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520" y="16034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8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66B2-F480-44CB-BADB-4068C4B8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52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520" y="39668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E6EF-4CC9-4FD2-95CC-33D8C690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52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8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783D-56D8-47F3-B30B-A6BA2FE9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8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45B5-9529-4026-90A1-AA811385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8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520" y="39668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D6F1-6881-4E43-933D-74EA1603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280" y="1603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1360" y="1603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8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280" y="39668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1360" y="39668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C98A-D7E2-4875-B6EA-EF0CD917B7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086474-1CA4-4F0E-B268-3F20FE24BC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34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DCBE70-D7CB-4CA0-860D-2C05E562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4FE98E-CB6C-4EA5-8226-55CF8003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34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0FA4B-52DD-4E17-A2A9-56E95226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520" y="16034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9C9427-0272-4E54-BFC5-7BC57EEB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42B2C9-207D-42F6-A795-A31F8D6BA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21DF0F-FF25-4A71-A11B-FE98BE13B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520" y="16034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8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9B4B04-31BE-4F81-9C70-20025D60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52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520" y="39668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C58D03-BEDC-45D0-B73A-D4387EBD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52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8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438AE0-D896-4AB1-AAF1-93326851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8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36BC7F-E7BF-4746-8AAF-A6EC4FEB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8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520" y="39668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04685C-EAFE-4D71-9D6C-7067993A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280" y="1603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1360" y="1603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8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280" y="39668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1360" y="39668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FC890D-A78E-422E-884A-5CC037E32E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B03D76-A73C-4D2A-8058-04F565B2E3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072E5-BDF4-49E5-A585-EC6A1270A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34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2B7B40-42E3-47FE-9FBE-361481A4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B7F32F-D63B-4807-8402-1F28B9DA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6034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06550D-C250-4AFE-92F2-4978AF6D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A4EF7C-760F-4CBA-9A53-18D24083F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1868DF-75B9-4752-B4BD-32F1CFC48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6034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8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973AE6-2DA5-4871-AE09-3A14D5A4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52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520" y="39668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C6032A-8DF5-4F0C-A35A-A733EDCC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52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8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660F80-C265-49CB-B7D9-D2806D44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8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59963D-65F9-4F40-81B1-D707216F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52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8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520" y="39668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7C3C63-35B9-4F63-AE73-3459FDFF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DCA79-8E69-4A52-A779-A0BA4319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280" y="1603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1360" y="1603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8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280" y="39668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1360" y="39668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72A829-A0DA-4FBF-8F30-65E3885605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12716-5832-43A9-90E1-86356ED346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34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6BFC9-06F8-434E-80D4-90B0B0CF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D8993-105D-4963-AF4C-AEA2C975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3520" y="16034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832AF-2B90-4235-A16A-AC3EBA52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36698-83CD-4C9C-8550-EEBCA1097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97017-04A9-4859-B1E3-F0AD0F1B1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3520" y="16034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8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550D3-A2BB-4BCB-BE8C-AD60F8C4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352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3520" y="39668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F812B-4A68-4938-95D9-C666CE26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52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8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87CD1-FD5D-48C0-8682-8C87BFA0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34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8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0A3F5-51FE-4ABA-88C9-CBA8D847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68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B561B-8055-4DC8-A995-D8E0D348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352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8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3520" y="39668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0A3E4-1D0B-4710-AE1A-C18668E9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280" y="1603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1360" y="1603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68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280" y="39668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1360" y="39668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ABFA2-B8C1-4EB0-84EE-8A7FCC7DEE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D4E905-B2B1-4793-B8AD-6EB21A573E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34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3729FA-6CE3-4B1A-BD0F-FE7DE8B0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876901-41D3-4BB3-AC3D-5D9BA805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3520" y="16034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44AE2C-5CBE-47BE-A429-D36074CD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1EFA5A-A5F0-4F74-9281-BB51C92D0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4B9B36-8E05-40FA-9368-723569BA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520" y="16034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8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53A23D-8ADF-49FB-84B4-66215FCE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68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11ACB-7D83-4B01-9E59-FB15DA04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52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3520" y="39668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F70043-43B7-4AC1-B82D-AFD5D013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352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8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EA1DE0-76FD-4FCE-BF5C-994DA3D1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68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F14635-36D8-4009-9C53-04E29105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52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8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3520" y="39668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EE6BC3-0E53-481C-A750-A816EC88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280" y="1603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1360" y="1603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68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280" y="39668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1360" y="39668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AA0E61-1072-445A-988F-C580C97CEC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B94F6F-E5CA-40DE-B115-B21EF407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34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CD6FC3-31BB-4102-9EFC-9C70D1A6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553564-EA29-4011-8855-57CD2CF0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3520" y="16034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DF6C7F-84B0-47B3-B2B5-CFFA5EAF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3887B5-AF5B-4CE0-A702-807C1350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8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A26D0-1DCF-4156-AC80-EEFAA555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CD9EC9-7646-4982-ACF7-DE98890E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520" y="16034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68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A18DDE-AB5B-4D8C-A16F-686B2CF2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52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3520" y="39668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DD820D-C24C-4D89-BEFF-2D8FE5B8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52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8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AF1B49-F30C-4F47-80A0-BED82184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68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CE52C0-CBEA-4FB7-9EC5-388BA5D4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3520" y="1603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8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3520" y="39668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54FEBF-169E-4453-9089-567466C0F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280" y="1603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1360" y="1603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68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280" y="39668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1360" y="39668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96ED7E-7E03-495B-A459-23F7DAADB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421BA5-A3DE-4927-A718-EC8AC4B51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34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A2452F-9E75-4CAA-A9A0-612F6C6F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E64B39-4223-484F-9E93-35B079C0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8b8b8b"/>
                </a:solidFill>
                <a:latin typeface="Calibri"/>
              </a:rPr>
              <a:t>Fare clic per modificare lo stile del sottotitolo dello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07/06/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99A6987-35BB-4F37-AF46-936B42F1480C}" type="slidenum">
              <a:rPr b="0" lang="it-I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34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7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4000"/>
          </a:bodyPr>
          <a:p>
            <a:pPr marL="25380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liccate per modificare il formato del testo della strut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SimSun"/>
              </a:rPr>
              <a:t>Secondo livello strut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SimSun"/>
              </a:rPr>
              <a:t>Terzo livello strut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SimSun"/>
              </a:rPr>
              <a:t>Quarto livello strut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SimSun"/>
              </a:rPr>
              <a:t>Quinto livello strut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SimSun"/>
              </a:rPr>
              <a:t>Sesto livello strut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SimSun"/>
              </a:rPr>
              <a:t>Settimo livello strut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SimSun"/>
              </a:rPr>
              <a:t>Ottavo livello strut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SimSun"/>
              </a:rPr>
              <a:t>Nono livello strut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07/06/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DB5973B-A9BA-4C0F-9B96-5A14F9820CCD}" type="slidenum">
              <a:rPr b="0" lang="it-I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300672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574800" y="272520"/>
            <a:ext cx="5110200" cy="58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3290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434960"/>
            <a:ext cx="300816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Cliccate per modificare il formato del testo della strut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  <a:ea typeface="SimSun"/>
              </a:rPr>
              <a:t>Secondo livello strut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  <a:ea typeface="SimSun"/>
              </a:rPr>
              <a:t>Terzo livello strut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  <a:ea typeface="SimSun"/>
              </a:rPr>
              <a:t>Quarto livello strut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  <a:ea typeface="SimSun"/>
              </a:rPr>
              <a:t>Quinto livello strut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  <a:ea typeface="SimSun"/>
              </a:rPr>
              <a:t>Sesto livello strut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  <a:ea typeface="SimSun"/>
              </a:rPr>
              <a:t>Settimo livello strut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  <a:ea typeface="SimSun"/>
              </a:rPr>
              <a:t>Ottavo livello strut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Nono livello strutturaFare clic per modificare stili del testo dello sch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07/06/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C0EEA05-5929-44C7-A615-D82FC0459AB1}" type="slidenum">
              <a:rPr b="0" lang="it-I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07/06/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0CCFBD2-565B-4014-A847-D3F43B3EE22F}" type="slidenum">
              <a:rPr b="0" lang="it-I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534680"/>
            <a:ext cx="40384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2000"/>
          </a:bodyPr>
          <a:p>
            <a:pPr marL="410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040" indent="-41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41040" indent="-41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41040" indent="-41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41040" indent="-41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41040" indent="-41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41040" indent="-41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liccate per modificare il formato del testo della strut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SimSun"/>
              </a:rPr>
              <a:t>Secondo livello strut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SimSun"/>
              </a:rPr>
              <a:t>Terzo livello strut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SimSun"/>
              </a:rPr>
              <a:t>Quarto livello strut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SimSun"/>
              </a:rPr>
              <a:t>Quinto livello strut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SimSun"/>
              </a:rPr>
              <a:t>Sesto livello strut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SimSun"/>
              </a:rPr>
              <a:t>Settimo livello strut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SimSun"/>
              </a:rPr>
              <a:t>Ottavo livello strut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SimSun"/>
              </a:rPr>
              <a:t>Nono livello strut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liccate per modificare il formato del testo della strut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SimSun"/>
              </a:rPr>
              <a:t>Secondo livello strut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SimSun"/>
              </a:rPr>
              <a:t>Terzo livello strut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SimSun"/>
              </a:rPr>
              <a:t>Quarto livello strut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SimSun"/>
              </a:rPr>
              <a:t>Quinto livello strut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SimSun"/>
              </a:rPr>
              <a:t>Sesto livello strut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SimSun"/>
              </a:rPr>
              <a:t>Settimo livello strut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SimSun"/>
              </a:rPr>
              <a:t>Ottavo livello strut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SimSun"/>
              </a:rPr>
              <a:t>Nono livello strut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liccate per modificare il formato del testo della strut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SimSun"/>
              </a:rPr>
              <a:t>Secondo livello strut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SimSun"/>
              </a:rPr>
              <a:t>Terzo livello strut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SimSun"/>
              </a:rPr>
              <a:t>Quarto livello strut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SimSun"/>
              </a:rPr>
              <a:t>Quinto livello strut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SimSun"/>
              </a:rPr>
              <a:t>Sesto livello strut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SimSun"/>
              </a:rPr>
              <a:t>Settimo livello strut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SimSun"/>
              </a:rPr>
              <a:t>Ottavo livello strut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SimSun"/>
              </a:rPr>
              <a:t>Nono livello strut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9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07/06/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FA14446-00A9-4565-9D00-3535C9988C45}" type="slidenum">
              <a:rPr b="0" lang="it-I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1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07/06/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2BB07AB-844D-48FE-B131-0034550FA023}" type="slidenum">
              <a:rPr b="0" lang="it-I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457200" y="16034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07/06/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ldNum" idx="1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2F966BC-DD72-44B8-BB7B-F8F8C7BABDD9}" type="slidenum">
              <a:rPr b="0" lang="it-I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457200" y="16034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34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5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16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17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350048F-85A9-48CE-82DF-58F1F7D8B9F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34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8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19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0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87A6443-984E-423C-A5E5-656DEB34F06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9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9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9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9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9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GESÙ</a:t>
            </a: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 CI HA LASCIATO </a:t>
            </a: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UN SOLO</a:t>
            </a: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 COMANDAMENTO…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416120" y="2500200"/>
            <a:ext cx="458316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2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i="1" lang="it-IT" sz="3200" spc="-1" strike="noStrike">
                <a:solidFill>
                  <a:srgbClr val="ff0000"/>
                </a:solidFill>
                <a:latin typeface="Calibri"/>
              </a:rPr>
              <a:t>Vi do un comandamento nuovo: che vi amiate gli uni gli altr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200" spc="-1" strike="noStrike">
                <a:solidFill>
                  <a:srgbClr val="ff0000"/>
                </a:solidFill>
                <a:latin typeface="Calibri"/>
              </a:rPr>
              <a:t>Come io ho amato voi, così amatevi anche voi gli uni gli altri.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4" name="Picture 5" descr="C:\Users\Sandra\Pictures\croce.jpg"/>
          <p:cNvPicPr/>
          <p:nvPr/>
        </p:nvPicPr>
        <p:blipFill>
          <a:blip r:embed="rId1"/>
          <a:stretch/>
        </p:blipFill>
        <p:spPr>
          <a:xfrm rot="21129600">
            <a:off x="899640" y="2349360"/>
            <a:ext cx="2857680" cy="38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0852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gli non condanna 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i beni materiali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, come potrebbe: 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sono doni di Dio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condanna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inve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l’uso distorto di es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250920" y="3789360"/>
            <a:ext cx="8713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4400" spc="-1" strike="noStrike">
                <a:solidFill>
                  <a:srgbClr val="ffff66"/>
                </a:solidFill>
                <a:latin typeface="Lucida Calligraphy"/>
              </a:rPr>
              <a:t>beati sono coloro che adoperano la ricchezza come mezzo per creare benessere per tutti</a:t>
            </a:r>
            <a:r>
              <a:rPr b="1" lang="it-IT" sz="28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ekton Pro"/>
              </a:rPr>
              <a:t>Quando siamo troppo pre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ekton Pro"/>
              </a:rPr>
              <a:t>dal possesso di beni terr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ekton Pro"/>
              </a:rPr>
              <a:t>e da atteggiamenti orgogliosi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ekton Pro"/>
              </a:rPr>
              <a:t>non siamo in gr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ekton Pro"/>
              </a:rPr>
              <a:t>di aprire il nostro cuore a Dio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539640" y="3789360"/>
            <a:ext cx="82296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Harrington"/>
              </a:rPr>
              <a:t>rischiamo che il nostro cu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Harrington"/>
              </a:rPr>
              <a:t>sia troppo “pien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Harrington"/>
              </a:rPr>
              <a:t>per trovare un posto per L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 poveri non sono colo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he non han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iò che gli serve per viver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 barboni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 poveracci che chiedono l’elemos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ff66"/>
                </a:solidFill>
                <a:latin typeface="Calibri"/>
              </a:rPr>
              <a:t>Poveri in spirito non si nasc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ff66"/>
                </a:solidFill>
                <a:latin typeface="Calibri"/>
              </a:rPr>
              <a:t>SI DIVEN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l vero pov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non è colui che è stato umiliato da Di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3995640" y="3429000"/>
            <a:ext cx="4824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accogliente verso il prossim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attento ai bisogni degli alt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con un sentimento di generosità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ronto a condividere quanto 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395280" y="3429000"/>
            <a:ext cx="360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obbediente, umile e fedele a 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468360" y="1773360"/>
            <a:ext cx="82296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ma colui che si è abbassato con l’amore di un figl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7"/>
          <p:cNvSpPr/>
          <p:nvPr/>
        </p:nvSpPr>
        <p:spPr>
          <a:xfrm>
            <a:off x="4500720" y="2708280"/>
            <a:ext cx="287280" cy="1081080"/>
          </a:xfrm>
          <a:custGeom>
            <a:avLst/>
            <a:gdLst>
              <a:gd name="textAreaLeft" fmla="*/ 38520 w 287280"/>
              <a:gd name="textAreaRight" fmla="*/ 248760 w 28728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8"/>
          <p:cNvSpPr/>
          <p:nvPr/>
        </p:nvSpPr>
        <p:spPr>
          <a:xfrm>
            <a:off x="4067280" y="2708280"/>
            <a:ext cx="360360" cy="1008000"/>
          </a:xfrm>
          <a:custGeom>
            <a:avLst/>
            <a:gdLst>
              <a:gd name="textAreaLeft" fmla="*/ 48240 w 360360"/>
              <a:gd name="textAreaRight" fmla="*/ 312120 w 36036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Calibri"/>
              </a:rPr>
              <a:t>L’ESEMPIO DI POVERO BEATO:</a:t>
            </a:r>
            <a:br>
              <a:rPr sz="4000"/>
            </a:br>
            <a:r>
              <a:rPr b="1" lang="it-IT" sz="4000" spc="-1" strike="noStrike">
                <a:solidFill>
                  <a:srgbClr val="ffff66"/>
                </a:solidFill>
                <a:latin typeface="Calibri"/>
              </a:rPr>
              <a:t>GES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714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3016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ossiamo dedurre che Ges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non fosse pover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2700360" y="3141720"/>
            <a:ext cx="6335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ur nascendo in una stall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viene presto portato in una c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2050920" y="4294080"/>
            <a:ext cx="48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sa leggere e scrive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quindi è andato a scu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826920" y="5445000"/>
            <a:ext cx="73440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non si fa complessi quando una do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gli profuma i piedi con l’olio profum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4"/>
          <p:cNvSpPr/>
          <p:nvPr/>
        </p:nvSpPr>
        <p:spPr>
          <a:xfrm>
            <a:off x="468360" y="1773360"/>
            <a:ext cx="82296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4800" spc="-1" strike="noStrike">
                <a:solidFill>
                  <a:srgbClr val="ffff66"/>
                </a:solidFill>
                <a:latin typeface="Arial"/>
              </a:rPr>
              <a:t>BEATI GLI AFFLITTI</a:t>
            </a:r>
            <a:br>
              <a:rPr sz="4800"/>
            </a:br>
            <a:r>
              <a:rPr b="1" i="1" lang="it-IT" sz="4800" spc="-1" strike="noStrike">
                <a:solidFill>
                  <a:srgbClr val="ffff66"/>
                </a:solidFill>
                <a:latin typeface="Arial"/>
              </a:rPr>
              <a:t>perché saranno</a:t>
            </a:r>
            <a:br>
              <a:rPr sz="4800"/>
            </a:br>
            <a:r>
              <a:rPr b="1" i="1" lang="it-IT" sz="4800" spc="-1" strike="noStrike">
                <a:solidFill>
                  <a:srgbClr val="ffff66"/>
                </a:solidFill>
                <a:latin typeface="Arial"/>
              </a:rPr>
              <a:t>consolat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48C5EECF.WAV" descr=""/>
          <p:cNvPicPr/>
          <p:nvPr/>
        </p:nvPicPr>
        <p:blipFill>
          <a:blip r:embed="rId1"/>
          <a:stretch/>
        </p:blipFill>
        <p:spPr>
          <a:xfrm>
            <a:off x="8713800" y="6427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1476360" y="188640"/>
            <a:ext cx="6192720" cy="23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Gesù procl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beati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gli afflit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non per il semplice fat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che soffro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611280" y="2708280"/>
            <a:ext cx="82296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ma perché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ff66"/>
                </a:solidFill>
                <a:latin typeface="Verdana"/>
              </a:rPr>
              <a:t>nonostante la loro situazi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it-IT" sz="32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it-IT" sz="3200" spc="-1" strike="noStrike">
                <a:solidFill>
                  <a:srgbClr val="ff0000"/>
                </a:solidFill>
                <a:latin typeface="Verdana"/>
              </a:rPr>
              <a:t>non si chiudono in sé stess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it-IT" sz="1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it-IT" sz="1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it-IT" sz="1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it-IT" sz="10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it-IT" sz="32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it-IT" sz="32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it-IT" sz="32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it-IT" sz="32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it-IT" sz="3200" spc="-1" strike="noStrike">
                <a:solidFill>
                  <a:srgbClr val="ff0000"/>
                </a:solidFill>
                <a:latin typeface="Verdana"/>
              </a:rPr>
              <a:t>non si abbatton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ff66"/>
                </a:solidFill>
                <a:latin typeface="Verdana"/>
              </a:rPr>
              <a:t>ma continuano a lottare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ff66"/>
                </a:solidFill>
                <a:latin typeface="Verdana"/>
              </a:rPr>
              <a:t>ad operare per il Regno di 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3708000" y="333360"/>
            <a:ext cx="484524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oloro che han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a fortu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i essere sa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Calibri"/>
              </a:rPr>
              <a:t>non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devono </a:t>
            </a:r>
            <a:r>
              <a:rPr b="0" lang="it-IT" sz="3200" spc="-1" strike="noStrike">
                <a:solidFill>
                  <a:srgbClr val="ff0000"/>
                </a:solidFill>
                <a:latin typeface="Calibri"/>
              </a:rPr>
              <a:t>compat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Calibri"/>
              </a:rPr>
              <a:t>o emargin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Calibri"/>
              </a:rPr>
              <a:t>chi è mala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324000" y="3357720"/>
            <a:ext cx="403200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Verdana"/>
              </a:rPr>
              <a:t>ma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 devono f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tutto qua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è in loro pot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per </a:t>
            </a:r>
            <a:r>
              <a:rPr b="0" lang="it-IT" sz="3200" spc="-1" strike="noStrike">
                <a:solidFill>
                  <a:srgbClr val="ff0000"/>
                </a:solidFill>
                <a:latin typeface="Verdana"/>
              </a:rPr>
              <a:t>soccorrer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e </a:t>
            </a:r>
            <a:r>
              <a:rPr b="0" lang="it-IT" sz="3200" spc="-1" strike="noStrike">
                <a:solidFill>
                  <a:srgbClr val="ff0000"/>
                </a:solidFill>
                <a:latin typeface="Verdana"/>
              </a:rPr>
              <a:t>sorregger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5" descr="samaritano"/>
          <p:cNvPicPr/>
          <p:nvPr/>
        </p:nvPicPr>
        <p:blipFill>
          <a:blip r:embed="rId1"/>
          <a:stretch/>
        </p:blipFill>
        <p:spPr>
          <a:xfrm>
            <a:off x="5364000" y="4363920"/>
            <a:ext cx="2068560" cy="206856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hi è </a:t>
            </a: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soddisfatto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della vita terrena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non avverte la precariet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ella propria situazi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non s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il bisogno di essere salva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4"/>
          <p:cNvSpPr/>
          <p:nvPr/>
        </p:nvSpPr>
        <p:spPr>
          <a:xfrm>
            <a:off x="2195640" y="3068640"/>
            <a:ext cx="671832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chi è </a:t>
            </a:r>
            <a:r>
              <a:rPr b="1" lang="it-IT" sz="3200" spc="-1" strike="noStrike">
                <a:solidFill>
                  <a:srgbClr val="ff0000"/>
                </a:solidFill>
                <a:latin typeface="Verdana"/>
              </a:rPr>
              <a:t>afflitto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impotente a liberar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dalle sue tribolazion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si rende conto 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Verdana"/>
              </a:rPr>
              <a:t>solo Dio può salvar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e si pon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it-IT" sz="3200" spc="-1" strike="noStrike">
                <a:solidFill>
                  <a:srgbClr val="ff0000"/>
                </a:solidFill>
                <a:latin typeface="Verdana"/>
              </a:rPr>
              <a:t>atteggiamento di umil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23640" y="158400"/>
            <a:ext cx="8435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Calibri"/>
              </a:rPr>
              <a:t>L’ESEMPIO DI AFFLITTO BEATO:</a:t>
            </a:r>
            <a:br>
              <a:rPr sz="4000"/>
            </a:br>
            <a:r>
              <a:rPr b="1" lang="it-IT" sz="4000" spc="-1" strike="noStrike">
                <a:solidFill>
                  <a:srgbClr val="ffff66"/>
                </a:solidFill>
                <a:latin typeface="Calibri"/>
              </a:rPr>
              <a:t>GES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04480" y="1671480"/>
            <a:ext cx="6707160" cy="15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Nell’Orto degli Uliv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apendo cosa gli sarebbe success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Calibri"/>
              </a:rPr>
              <a:t>Gesù </a:t>
            </a:r>
            <a:r>
              <a:rPr b="1" lang="it-IT" sz="2800" spc="-1" strike="noStrike" u="sng">
                <a:solidFill>
                  <a:srgbClr val="ffff66"/>
                </a:solidFill>
                <a:uFillTx/>
                <a:latin typeface="Calibri"/>
              </a:rPr>
              <a:t>suda sang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250920" y="3573360"/>
            <a:ext cx="547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Nonostante i suoi torment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Verdana"/>
              </a:rPr>
              <a:t>non rinuncia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a compi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a volontà del Pa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4140360" y="5156280"/>
            <a:ext cx="4679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Verdana"/>
              </a:rPr>
              <a:t>resta fed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alla Sua missio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nonostante la soffer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.E LE </a:t>
            </a: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BEATITUDI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 Box 2"/>
          <p:cNvSpPr/>
          <p:nvPr/>
        </p:nvSpPr>
        <p:spPr>
          <a:xfrm>
            <a:off x="2100240" y="1600200"/>
            <a:ext cx="494352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Nel Vangelo di </a:t>
            </a:r>
            <a:r>
              <a:rPr b="0" lang="it-IT" sz="3600" spc="-1" strike="noStrike">
                <a:solidFill>
                  <a:srgbClr val="ff0000"/>
                </a:solidFill>
                <a:latin typeface="Calibri"/>
              </a:rPr>
              <a:t>Matteo</a:t>
            </a: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le beatitudini sono </a:t>
            </a:r>
            <a:r>
              <a:rPr b="0" lang="it-IT" sz="36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Nel Vangelo di </a:t>
            </a:r>
            <a:r>
              <a:rPr b="0" lang="it-IT" sz="3600" spc="-1" strike="noStrike">
                <a:solidFill>
                  <a:srgbClr val="ff0000"/>
                </a:solidFill>
                <a:latin typeface="Calibri"/>
              </a:rPr>
              <a:t>Luca</a:t>
            </a: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le beatitudini sono </a:t>
            </a:r>
            <a:r>
              <a:rPr b="0" lang="it-IT" sz="36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856908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468360" y="1773360"/>
            <a:ext cx="82296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4800" spc="-1" strike="noStrike">
                <a:solidFill>
                  <a:srgbClr val="ffff66"/>
                </a:solidFill>
                <a:latin typeface="Arial"/>
              </a:rPr>
              <a:t>BEATI I MITI</a:t>
            </a:r>
            <a:br>
              <a:rPr sz="4800"/>
            </a:br>
            <a:r>
              <a:rPr b="1" i="1" lang="it-IT" sz="4800" spc="-1" strike="noStrike">
                <a:solidFill>
                  <a:srgbClr val="ffff66"/>
                </a:solidFill>
                <a:latin typeface="Arial"/>
              </a:rPr>
              <a:t>perché erediteranno</a:t>
            </a:r>
            <a:br>
              <a:rPr sz="4800"/>
            </a:br>
            <a:r>
              <a:rPr b="1" i="1" lang="it-IT" sz="4800" spc="-1" strike="noStrike">
                <a:solidFill>
                  <a:srgbClr val="ffff66"/>
                </a:solidFill>
                <a:latin typeface="Arial"/>
              </a:rPr>
              <a:t>la ter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D1C10510.WAV" descr=""/>
          <p:cNvPicPr/>
          <p:nvPr/>
        </p:nvPicPr>
        <p:blipFill>
          <a:blip r:embed="rId1"/>
          <a:stretch/>
        </p:blipFill>
        <p:spPr>
          <a:xfrm>
            <a:off x="8713800" y="6427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3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0" dur="2000" fill="hold"/>
                                        <p:tgtEl>
                                          <p:spTgt spid="4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107640" y="260280"/>
            <a:ext cx="6551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0852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Per </a:t>
            </a: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non-violenza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rifiutando di combattere un err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n un altro error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non si intende passivit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o sottomissi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3527280" y="2997360"/>
            <a:ext cx="56167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Bisogna </a:t>
            </a:r>
            <a:r>
              <a:rPr b="1" lang="it-IT" sz="2800" spc="-1" strike="noStrike">
                <a:solidFill>
                  <a:srgbClr val="ffff66"/>
                </a:solidFill>
                <a:latin typeface="Verdana"/>
              </a:rPr>
              <a:t>combatt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Verdana"/>
              </a:rPr>
              <a:t>coraggios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er le proprie id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Verdana"/>
              </a:rPr>
              <a:t>senza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cercare di distrugg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1" lang="it-IT" sz="2800" spc="-1" strike="noStrike">
                <a:solidFill>
                  <a:srgbClr val="ffff66"/>
                </a:solidFill>
                <a:latin typeface="Verdana"/>
              </a:rPr>
              <a:t>annientare l’avvers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324000" y="5013360"/>
            <a:ext cx="4681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Harrington"/>
              </a:rPr>
              <a:t>Questo è il </a:t>
            </a:r>
            <a:r>
              <a:rPr b="1" lang="it-IT" sz="3200" spc="-1" strike="noStrike">
                <a:solidFill>
                  <a:srgbClr val="ff0000"/>
                </a:solidFill>
                <a:latin typeface="Harrington"/>
              </a:rPr>
              <a:t>princip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Harrington"/>
              </a:rPr>
              <a:t>per il dia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Harrington"/>
              </a:rPr>
              <a:t>e la democraz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6" descr="cacciata dal tempio"/>
          <p:cNvPicPr/>
          <p:nvPr/>
        </p:nvPicPr>
        <p:blipFill>
          <a:blip r:embed="rId1"/>
          <a:stretch/>
        </p:blipFill>
        <p:spPr>
          <a:xfrm>
            <a:off x="755640" y="2944800"/>
            <a:ext cx="2736720" cy="19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3348000" y="549000"/>
            <a:ext cx="561672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Non si trat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i vigliaccheria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i paura di agir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468360" y="3716280"/>
            <a:ext cx="4753080" cy="22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ma di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Verdana"/>
              </a:rPr>
              <a:t>rifiut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l’ormai fam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it-IT" sz="3200" spc="-1" strike="noStrike">
                <a:solidFill>
                  <a:srgbClr val="000000"/>
                </a:solidFill>
                <a:latin typeface="Verdana"/>
              </a:rPr>
              <a:t>occhio per occhi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5" descr="0537"/>
          <p:cNvPicPr/>
          <p:nvPr/>
        </p:nvPicPr>
        <p:blipFill>
          <a:blip r:embed="rId1"/>
          <a:stretch/>
        </p:blipFill>
        <p:spPr>
          <a:xfrm>
            <a:off x="5546880" y="3268800"/>
            <a:ext cx="3057480" cy="296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541008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Nell’uomo ci sarà semp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istinto ad agire con violen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900000" y="1844640"/>
            <a:ext cx="7417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l’uomo </a:t>
            </a:r>
            <a:r>
              <a:rPr b="1" lang="it-IT" sz="3200" spc="-1" strike="noStrike">
                <a:solidFill>
                  <a:srgbClr val="ffff66"/>
                </a:solidFill>
                <a:latin typeface="Verdana"/>
              </a:rPr>
              <a:t>mite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 è col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che </a:t>
            </a:r>
            <a:r>
              <a:rPr b="1" lang="it-IT" sz="3200" spc="-1" strike="noStrike">
                <a:solidFill>
                  <a:srgbClr val="ffff66"/>
                </a:solidFill>
                <a:latin typeface="Verdana"/>
              </a:rPr>
              <a:t>tiene a bada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 questo </a:t>
            </a:r>
            <a:r>
              <a:rPr b="1" lang="it-IT" sz="3200" spc="-1" strike="noStrike">
                <a:solidFill>
                  <a:srgbClr val="ffff66"/>
                </a:solidFill>
                <a:latin typeface="Verdana"/>
              </a:rPr>
              <a:t>istinto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4500720" y="3068640"/>
            <a:ext cx="431928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lui che ries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dominare sé ste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 la volontà 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volersi imporre sugli altr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395280" y="4154400"/>
            <a:ext cx="3887640" cy="20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lui che ries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controllare senti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me ira, coller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rritazione, sdegno, arroganza, prepot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>
                <a:solidFill>
                  <a:srgbClr val="ffff66"/>
                </a:solidFill>
                <a:latin typeface="Calibri"/>
              </a:rPr>
              <a:t>GESÙ,</a:t>
            </a:r>
            <a:br>
              <a:rPr sz="4000"/>
            </a:br>
            <a:r>
              <a:rPr b="1" i="1" lang="it-IT" sz="4000" spc="-1" strike="noStrike">
                <a:solidFill>
                  <a:srgbClr val="ff0000"/>
                </a:solidFill>
                <a:latin typeface="Calibri"/>
              </a:rPr>
              <a:t>mite e umile di cuo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4752720" cy="14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dice ai suoi discepol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Ecco, io vi mando 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gnelli in mezzo ai lupi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4"/>
          <p:cNvSpPr/>
          <p:nvPr/>
        </p:nvSpPr>
        <p:spPr>
          <a:xfrm>
            <a:off x="2987640" y="3213000"/>
            <a:ext cx="604836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e mentre lo di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Egli, Agnello innocent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i precede dando loro l’esemp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250920" y="4869000"/>
            <a:ext cx="86421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ekton Pro"/>
              </a:rPr>
              <a:t>per fare il bene bisogna soffr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ekton Pro"/>
              </a:rPr>
              <a:t>e pagare di person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ekton Pro"/>
              </a:rPr>
              <a:t>piuttosto che imporsi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ekton Pro"/>
              </a:rPr>
              <a:t>difendersi con la for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457200" y="3319560"/>
            <a:ext cx="8229600" cy="34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Rectangle 4"/>
          <p:cNvSpPr/>
          <p:nvPr/>
        </p:nvSpPr>
        <p:spPr>
          <a:xfrm>
            <a:off x="468360" y="1341360"/>
            <a:ext cx="82296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4800" spc="-1" strike="noStrike">
                <a:solidFill>
                  <a:srgbClr val="ffff66"/>
                </a:solidFill>
                <a:latin typeface="Arial"/>
              </a:rPr>
              <a:t>BEATI QUELLI CHE</a:t>
            </a:r>
            <a:br>
              <a:rPr sz="4800"/>
            </a:br>
            <a:r>
              <a:rPr b="1" i="1" lang="it-IT" sz="4800" spc="-1" strike="noStrike">
                <a:solidFill>
                  <a:srgbClr val="ffff66"/>
                </a:solidFill>
                <a:latin typeface="Arial"/>
              </a:rPr>
              <a:t>HANNO FAME E</a:t>
            </a:r>
            <a:br>
              <a:rPr sz="4800"/>
            </a:br>
            <a:r>
              <a:rPr b="1" i="1" lang="it-IT" sz="4800" spc="-1" strike="noStrike">
                <a:solidFill>
                  <a:srgbClr val="ffff66"/>
                </a:solidFill>
                <a:latin typeface="Arial"/>
              </a:rPr>
              <a:t>SETE DI GIUSTIZIA</a:t>
            </a:r>
            <a:br>
              <a:rPr sz="4800"/>
            </a:br>
            <a:r>
              <a:rPr b="1" i="1" lang="it-IT" sz="4800" spc="-1" strike="noStrike">
                <a:solidFill>
                  <a:srgbClr val="ffff66"/>
                </a:solidFill>
                <a:latin typeface="Arial"/>
              </a:rPr>
              <a:t>perché saranno</a:t>
            </a:r>
            <a:br>
              <a:rPr sz="4800"/>
            </a:br>
            <a:r>
              <a:rPr b="1" i="1" lang="it-IT" sz="4800" spc="-1" strike="noStrike">
                <a:solidFill>
                  <a:srgbClr val="ffff66"/>
                </a:solidFill>
                <a:latin typeface="Arial"/>
              </a:rPr>
              <a:t>saziat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72F6AEF0.WAV" descr=""/>
          <p:cNvPicPr/>
          <p:nvPr/>
        </p:nvPicPr>
        <p:blipFill>
          <a:blip r:embed="rId1"/>
          <a:stretch/>
        </p:blipFill>
        <p:spPr>
          <a:xfrm>
            <a:off x="8713800" y="6427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3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3" dur="2000" fill="hold"/>
                                        <p:tgtEl>
                                          <p:spTgt spid="4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4500720" y="4078440"/>
            <a:ext cx="412416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Gesù ha agi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volendo re-integr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a dignità d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ogni essere uma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1619280" y="431640"/>
            <a:ext cx="626436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Verdana"/>
              </a:rPr>
              <a:t>Non si int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Verdana"/>
              </a:rPr>
              <a:t>la giustizia per sé stess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Verdana"/>
              </a:rPr>
              <a:t>ma per tutt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611280" y="2709720"/>
            <a:ext cx="39607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Dio vuole 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tutte le cr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ossano viv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con 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pari dign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e gio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8856720" cy="27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ffronta ad esempio i farise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 le loro ipocris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ff0000"/>
                </a:solidFill>
                <a:latin typeface="Calibri"/>
              </a:rPr>
              <a:t>guarisce di saba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ff0000"/>
                </a:solidFill>
                <a:latin typeface="Calibri"/>
              </a:rPr>
              <a:t>si lascia avvicinare dai peccato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ff0000"/>
                </a:solidFill>
                <a:latin typeface="Calibri"/>
              </a:rPr>
              <a:t>non allontana la donna impu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Rectangle 4"/>
          <p:cNvSpPr/>
          <p:nvPr/>
        </p:nvSpPr>
        <p:spPr>
          <a:xfrm>
            <a:off x="468360" y="333360"/>
            <a:ext cx="835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ff66"/>
                </a:solidFill>
                <a:latin typeface="Verdana"/>
              </a:rPr>
              <a:t>Gesù stes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ff66"/>
                </a:solidFill>
                <a:latin typeface="Verdana"/>
              </a:rPr>
              <a:t>affronta le ingiustiz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5"/>
          <p:cNvSpPr/>
          <p:nvPr/>
        </p:nvSpPr>
        <p:spPr>
          <a:xfrm>
            <a:off x="34920" y="5083200"/>
            <a:ext cx="88567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farise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pretendono di vivere il loro rapporto con Dio su pratiche esteriori,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senza curare la giustizi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, la misericordia e la reale fedeltà al progetto di 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6" descr="farisei"/>
          <p:cNvPicPr/>
          <p:nvPr/>
        </p:nvPicPr>
        <p:blipFill>
          <a:blip r:embed="rId1"/>
          <a:stretch/>
        </p:blipFill>
        <p:spPr>
          <a:xfrm>
            <a:off x="6084720" y="1523880"/>
            <a:ext cx="2757600" cy="213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alibri"/>
              </a:rPr>
              <a:t>Attenzione però!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482580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3016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hi è oppresso 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vede qualcu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he è oppress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non può viv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in modo fatalistic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pensando 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ekton Pro"/>
              </a:rPr>
              <a:t>“</a:t>
            </a:r>
            <a:r>
              <a:rPr b="0" i="1" lang="it-IT" sz="2800" spc="-1" strike="noStrike">
                <a:solidFill>
                  <a:srgbClr val="000000"/>
                </a:solidFill>
                <a:latin typeface="Tekton Pro"/>
              </a:rPr>
              <a:t>qualcuno farà qualcosa”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4"/>
          <p:cNvSpPr/>
          <p:nvPr/>
        </p:nvSpPr>
        <p:spPr>
          <a:xfrm>
            <a:off x="4859280" y="4076640"/>
            <a:ext cx="3981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deve cerca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inve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di 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porre rime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a questa ingiustiz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Calibri"/>
              </a:rPr>
              <a:t>L’esempio di</a:t>
            </a:r>
            <a:br>
              <a:rPr sz="4000"/>
            </a:br>
            <a:r>
              <a:rPr b="1" lang="it-IT" sz="4000" spc="-1" strike="noStrike">
                <a:solidFill>
                  <a:srgbClr val="ffff66"/>
                </a:solidFill>
                <a:latin typeface="Calibri"/>
              </a:rPr>
              <a:t>Gesù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0560" y="1815840"/>
            <a:ext cx="85690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7756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Ha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simbolicamente saziato e dissetato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756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moltiplicazione dei pani e dei pesc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trasformazione dell’acqua in vi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la pesca miracolo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Rectangle 4"/>
          <p:cNvSpPr/>
          <p:nvPr/>
        </p:nvSpPr>
        <p:spPr>
          <a:xfrm>
            <a:off x="324000" y="4940280"/>
            <a:ext cx="856908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er 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rappresent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fame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e la 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s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di 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perfezione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e di 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sant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5" descr="moltiplicazione pani pesci2"/>
          <p:cNvPicPr/>
          <p:nvPr/>
        </p:nvPicPr>
        <p:blipFill>
          <a:blip r:embed="rId1"/>
          <a:stretch/>
        </p:blipFill>
        <p:spPr>
          <a:xfrm>
            <a:off x="5651640" y="620640"/>
            <a:ext cx="2786040" cy="196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306864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Calibri"/>
              </a:rPr>
              <a:t>PERCHÉ </a:t>
            </a:r>
            <a:r>
              <a:rPr b="1" lang="it-IT" sz="4800" spc="-1" strike="noStrike">
                <a:solidFill>
                  <a:srgbClr val="ff0000"/>
                </a:solidFill>
                <a:latin typeface="Calibri"/>
              </a:rPr>
              <a:t>8</a:t>
            </a:r>
            <a:r>
              <a:rPr b="1" lang="it-IT" sz="4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"/>
          <p:cNvSpPr/>
          <p:nvPr/>
        </p:nvSpPr>
        <p:spPr>
          <a:xfrm>
            <a:off x="1619280" y="1800360"/>
            <a:ext cx="7380360" cy="41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NDICA LA </a:t>
            </a: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RESURREZIONE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PERCHÉ GESÙ È RISORTO IL </a:t>
            </a: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PRIMO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GIORNO DOPO LA SETTIMA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it-IT" sz="3200" spc="-1" strike="noStrike">
                <a:solidFill>
                  <a:srgbClr val="00b050"/>
                </a:solidFill>
                <a:latin typeface="Calibri"/>
              </a:rPr>
              <a:t>7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GIORNI DELLA SETTIMANA + </a:t>
            </a:r>
            <a:r>
              <a:rPr b="1" lang="it-IT" sz="3200" spc="-1" strike="noStrike">
                <a:solidFill>
                  <a:srgbClr val="00b050"/>
                </a:solidFill>
                <a:latin typeface="Calibri"/>
              </a:rPr>
              <a:t>1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8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I CONSEGUEN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alibri"/>
              </a:rPr>
              <a:t>CHI VIVE LE BEATITUDIN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alibri"/>
              </a:rPr>
              <a:t>VINCE LA MO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3"/>
          <p:cNvSpPr/>
          <p:nvPr/>
        </p:nvSpPr>
        <p:spPr>
          <a:xfrm>
            <a:off x="357120" y="2786040"/>
            <a:ext cx="2400480" cy="34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297000" y="1944720"/>
            <a:ext cx="1143000" cy="1568520"/>
          </a:xfrm>
          <a:prstGeom prst="rect">
            <a:avLst/>
          </a:prstGeom>
          <a:gradFill rotWithShape="0">
            <a:gsLst>
              <a:gs pos="0">
                <a:srgbClr val="fff1ec"/>
              </a:gs>
              <a:gs pos="100000">
                <a:srgbClr val="ffd2bc"/>
              </a:gs>
            </a:gsLst>
            <a:lin ang="5400000"/>
          </a:gradFill>
          <a:ln w="9360">
            <a:solidFill>
              <a:srgbClr val="f592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it-IT" sz="9600" spc="-1" strike="noStrike">
                <a:solidFill>
                  <a:srgbClr val="fff1ec"/>
                </a:solidFill>
                <a:latin typeface="Calibri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repl">
                                        <p:cTn id="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500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56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27.5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500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56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27.5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500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6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5"/>
          <p:cNvSpPr/>
          <p:nvPr/>
        </p:nvSpPr>
        <p:spPr>
          <a:xfrm>
            <a:off x="468360" y="692280"/>
            <a:ext cx="82296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4800" spc="-1" strike="noStrike">
                <a:solidFill>
                  <a:srgbClr val="ffff66"/>
                </a:solidFill>
                <a:latin typeface="Arial"/>
              </a:rPr>
              <a:t>BEATI I</a:t>
            </a:r>
            <a:br>
              <a:rPr sz="4800"/>
            </a:br>
            <a:r>
              <a:rPr b="1" i="1" lang="it-IT" sz="4800" spc="-1" strike="noStrike">
                <a:solidFill>
                  <a:srgbClr val="ffff66"/>
                </a:solidFill>
                <a:latin typeface="Arial"/>
              </a:rPr>
              <a:t>MISERICORDIOSI</a:t>
            </a:r>
            <a:br>
              <a:rPr sz="4800"/>
            </a:br>
            <a:r>
              <a:rPr b="1" i="1" lang="it-IT" sz="4800" spc="-1" strike="noStrike">
                <a:solidFill>
                  <a:srgbClr val="ffff66"/>
                </a:solidFill>
                <a:latin typeface="Arial"/>
              </a:rPr>
              <a:t>perché troveranno</a:t>
            </a:r>
            <a:br>
              <a:rPr sz="4800"/>
            </a:br>
            <a:r>
              <a:rPr b="1" i="1" lang="it-IT" sz="4800" spc="-1" strike="noStrike">
                <a:solidFill>
                  <a:srgbClr val="ffff66"/>
                </a:solidFill>
                <a:latin typeface="Arial"/>
              </a:rPr>
              <a:t>misericord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8C70DF40.WAV" descr=""/>
          <p:cNvPicPr/>
          <p:nvPr/>
        </p:nvPicPr>
        <p:blipFill>
          <a:blip r:embed="rId1"/>
          <a:stretch/>
        </p:blipFill>
        <p:spPr>
          <a:xfrm>
            <a:off x="8713800" y="6427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3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5" dur="2000" fill="hold"/>
                                        <p:tgtEl>
                                          <p:spTgt spid="4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Per </a:t>
            </a:r>
            <a:r>
              <a:rPr b="1" lang="it-IT" sz="1800" spc="-1" strike="noStrike" u="sng">
                <a:solidFill>
                  <a:srgbClr val="ff0000"/>
                </a:solidFill>
                <a:uFillTx/>
                <a:latin typeface="Calibri"/>
              </a:rPr>
              <a:t>misericordia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 si inten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338800" cy="16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comprensione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e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perdono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sempre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e comunqu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verso tutti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i propri simil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Rectangle 5"/>
          <p:cNvSpPr/>
          <p:nvPr/>
        </p:nvSpPr>
        <p:spPr>
          <a:xfrm>
            <a:off x="2124000" y="3573360"/>
            <a:ext cx="4535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it-IT" sz="2800" spc="-1" strike="noStrike">
                <a:solidFill>
                  <a:srgbClr val="ffff66"/>
                </a:solidFill>
                <a:latin typeface="Verdana"/>
              </a:rPr>
              <a:t>misericordia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di 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è 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piena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it-IT" sz="2800" spc="-1" strike="noStrike">
                <a:solidFill>
                  <a:srgbClr val="ffff66"/>
                </a:solidFill>
                <a:latin typeface="Verdana"/>
              </a:rPr>
              <a:t>comp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6"/>
          <p:cNvSpPr/>
          <p:nvPr/>
        </p:nvSpPr>
        <p:spPr>
          <a:xfrm>
            <a:off x="4211640" y="4940280"/>
            <a:ext cx="4176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Verdana"/>
              </a:rPr>
              <a:t>per l’uo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il </a:t>
            </a:r>
            <a:r>
              <a:rPr b="1" lang="it-IT" sz="2800" spc="-1" strike="noStrike">
                <a:solidFill>
                  <a:srgbClr val="ffff66"/>
                </a:solidFill>
                <a:latin typeface="Verdana"/>
              </a:rPr>
              <a:t>perdono tot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è </a:t>
            </a:r>
            <a:r>
              <a:rPr b="1" lang="it-IT" sz="2800" spc="-1" strike="noStrike">
                <a:solidFill>
                  <a:srgbClr val="ffff66"/>
                </a:solidFill>
                <a:latin typeface="Verdana"/>
              </a:rPr>
              <a:t>difficile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da att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2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2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2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3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2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2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2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3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2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2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2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8300"/>
                            </p:stCondLst>
                            <p:childTnLst>
                              <p:par>
                                <p:cTn id="3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77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5" dur="770" fill="hold"/>
                                        <p:tgtEl>
                                          <p:spTgt spid="4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7" dur="77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0300"/>
                            </p:stCondLst>
                            <p:childTnLst>
                              <p:par>
                                <p:cTn id="3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7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Calibri"/>
              </a:rPr>
              <a:t>L’uomo ha bisogno del perdo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50560" y="1411200"/>
            <a:ext cx="53290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0852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l cospetto di D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tutti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sono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grandi debitori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nche i san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3995640" y="2997360"/>
            <a:ext cx="50403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Tekton Pro"/>
              </a:rPr>
              <a:t>nessuno può d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Tekton Pro"/>
              </a:rPr>
              <a:t>di non aver mai offeso 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324000" y="4076640"/>
            <a:ext cx="5040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i si sente profond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Verdana"/>
              </a:rPr>
              <a:t>bisognos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nei confronti di </a:t>
            </a:r>
            <a:r>
              <a:rPr b="1" lang="it-IT" sz="2400" spc="-1" strike="noStrike">
                <a:solidFill>
                  <a:srgbClr val="ffff66"/>
                </a:solidFill>
                <a:latin typeface="Verdana"/>
              </a:rPr>
              <a:t>Di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5580000" y="4869000"/>
            <a:ext cx="28796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kton Pro"/>
              </a:rPr>
              <a:t>questo fa sì 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kton Pro"/>
              </a:rPr>
              <a:t>ci sentia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Tekton Pro"/>
              </a:rPr>
              <a:t>più misericordio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kton Pro"/>
              </a:rPr>
              <a:t>nei confro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kton Pro"/>
              </a:rPr>
              <a:t>dei </a:t>
            </a:r>
            <a:r>
              <a:rPr b="1" lang="it-IT" sz="2400" spc="-1" strike="noStrike">
                <a:solidFill>
                  <a:srgbClr val="ffff66"/>
                </a:solidFill>
                <a:latin typeface="Tekton Pro"/>
              </a:rPr>
              <a:t>nostri frate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3" dur="2500" autoRev="1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animClr clrSpc="rgb">
                                      <p:cBhvr>
                                        <p:cTn id="414" dur="2500" autoRev="1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415" dur="2500" autoRev="1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8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8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8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4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5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22800"/>
                            </p:stCondLst>
                            <p:childTnLst>
                              <p:par>
                                <p:cTn id="4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2330280" y="763560"/>
            <a:ext cx="4546800" cy="17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08520" indent="0" algn="ctr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Portati a speriment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gioia del perdono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uperando la difficolt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 perdonar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1908000" y="3213000"/>
            <a:ext cx="55436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siamo chiam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ad essere </a:t>
            </a:r>
            <a:r>
              <a:rPr b="1" lang="it-IT" sz="2800" spc="-1" strike="noStrike">
                <a:solidFill>
                  <a:srgbClr val="ff0000"/>
                </a:solidFill>
                <a:latin typeface="Verdana"/>
              </a:rPr>
              <a:t>un’ic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Verdana"/>
              </a:rPr>
              <a:t>della misericordia divina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non solo con le paro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ma </a:t>
            </a:r>
            <a:r>
              <a:rPr b="1" lang="it-IT" sz="2800" spc="-1" strike="noStrike">
                <a:solidFill>
                  <a:srgbClr val="ff0000"/>
                </a:solidFill>
                <a:latin typeface="Verdana"/>
              </a:rPr>
              <a:t>soprattutto con</a:t>
            </a:r>
            <a:r>
              <a:rPr b="1" lang="it-IT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it-IT" sz="2800" spc="-1" strike="noStrike">
                <a:solidFill>
                  <a:srgbClr val="ff0000"/>
                </a:solidFill>
                <a:latin typeface="Verdana"/>
              </a:rPr>
              <a:t>i ge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5" descr="figliolprodigo3"/>
          <p:cNvPicPr/>
          <p:nvPr/>
        </p:nvPicPr>
        <p:blipFill>
          <a:blip r:embed="rId1"/>
          <a:stretch/>
        </p:blipFill>
        <p:spPr>
          <a:xfrm>
            <a:off x="341280" y="1700280"/>
            <a:ext cx="2143080" cy="244800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2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2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2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4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2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2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2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200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200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200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4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200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200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200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5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507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8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8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516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8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800" fill="hold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800" fill="hold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1900"/>
                            </p:stCondLst>
                            <p:childTnLst>
                              <p:par>
                                <p:cTn id="525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8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8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8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8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13900"/>
                            </p:stCondLst>
                            <p:childTnLst>
                              <p:par>
                                <p:cTn id="534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800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8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8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8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5900"/>
                            </p:stCondLst>
                            <p:childTnLst>
                              <p:par>
                                <p:cTn id="543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800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800" fill="hold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16034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’amore misericordioso e benevolo di Dio si manifesta principalmente in 2 mod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it-IT" sz="4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it-IT" sz="4000" spc="-1" strike="noStrike">
                <a:solidFill>
                  <a:srgbClr val="ff0000"/>
                </a:solidFill>
                <a:latin typeface="Calibri"/>
              </a:rPr>
              <a:t>perdona i pecca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it-IT" sz="4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it-IT" sz="4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it-IT" sz="4000" spc="-1" strike="noStrike">
                <a:solidFill>
                  <a:srgbClr val="ff0000"/>
                </a:solidFill>
                <a:latin typeface="Calibri"/>
              </a:rPr>
              <a:t>soccorre i bisognos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8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8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8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8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8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8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8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8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3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800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8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8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8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3553920" y="622080"/>
            <a:ext cx="5194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Matt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on questa beatitud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ff66"/>
                </a:solidFill>
                <a:latin typeface="Calibri"/>
              </a:rPr>
              <a:t>non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ind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ff66"/>
                </a:solidFill>
                <a:latin typeface="Calibri"/>
              </a:rPr>
              <a:t>solo un sentimento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468360" y="3646440"/>
            <a:ext cx="60483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ma </a:t>
            </a:r>
            <a:r>
              <a:rPr b="1" lang="it-IT" sz="2800" spc="-1" strike="noStrike">
                <a:solidFill>
                  <a:srgbClr val="ff0000"/>
                </a:solidFill>
                <a:latin typeface="Verdana"/>
              </a:rPr>
              <a:t>concreti ge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Verdana"/>
              </a:rPr>
              <a:t>di perd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all’interno dei nost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rapporti interperson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e </a:t>
            </a:r>
            <a:r>
              <a:rPr b="1" lang="it-IT" sz="2800" spc="-1" strike="noStrike">
                <a:solidFill>
                  <a:srgbClr val="ffff66"/>
                </a:solidFill>
                <a:latin typeface="Verdana"/>
              </a:rPr>
              <a:t>d’aiuto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prestato ai bisogno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0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0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00000" y="663480"/>
            <a:ext cx="7499520" cy="15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l </a:t>
            </a:r>
            <a:r>
              <a:rPr b="1" lang="it-IT" sz="3200" spc="-1" strike="noStrike">
                <a:solidFill>
                  <a:srgbClr val="ffff66"/>
                </a:solidFill>
                <a:latin typeface="Calibri"/>
              </a:rPr>
              <a:t>misericordioso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imita il Padre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nel suo agire verso il prossim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611280" y="2824200"/>
            <a:ext cx="55450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Verdana"/>
              </a:rPr>
              <a:t>perdonando i torti ricevu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2124000" y="4479840"/>
            <a:ext cx="633564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Verdana"/>
              </a:rPr>
              <a:t>impegnandosi a soccorr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Verdana"/>
              </a:rPr>
              <a:t>generosamente gli indig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0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8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8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8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8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4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8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8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8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8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L’esempio di</a:t>
            </a:r>
            <a:br>
              <a:rPr sz="1800"/>
            </a:br>
            <a:r>
              <a:rPr b="1" lang="it-IT" sz="1800" spc="-1" strike="noStrike">
                <a:solidFill>
                  <a:srgbClr val="ffff66"/>
                </a:solidFill>
                <a:latin typeface="Calibri"/>
              </a:rPr>
              <a:t>Gesù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781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Lucida Calligraphy"/>
              </a:rPr>
              <a:t>accoglie e perdona i peccatori</a:t>
            </a:r>
            <a:r>
              <a:rPr b="0" lang="it-IT" sz="2800" spc="-1" strike="noStrike">
                <a:solidFill>
                  <a:srgbClr val="000000"/>
                </a:solidFill>
                <a:latin typeface="Lucida Calligraph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4"/>
          <p:cNvSpPr/>
          <p:nvPr/>
        </p:nvSpPr>
        <p:spPr>
          <a:xfrm>
            <a:off x="2770200" y="4292640"/>
            <a:ext cx="5473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Lucida Calligraphy"/>
              </a:rPr>
              <a:t>perdona addirittura colo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Lucida Calligraphy"/>
              </a:rPr>
              <a:t>che lo hanno crocifi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5" descr="crocifisso"/>
          <p:cNvPicPr/>
          <p:nvPr/>
        </p:nvPicPr>
        <p:blipFill>
          <a:blip r:embed="rId1"/>
          <a:stretch/>
        </p:blipFill>
        <p:spPr>
          <a:xfrm>
            <a:off x="179280" y="3573360"/>
            <a:ext cx="2592360" cy="200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8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0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8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8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8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8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53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8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8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8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8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Egli non solo procla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questa beatitudin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4"/>
          <p:cNvSpPr/>
          <p:nvPr/>
        </p:nvSpPr>
        <p:spPr>
          <a:xfrm>
            <a:off x="539640" y="1700280"/>
            <a:ext cx="82803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Verdana"/>
              </a:rPr>
              <a:t>ind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Verdana"/>
              </a:rPr>
              <a:t>la 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er metterla in at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684360" y="3718080"/>
            <a:ext cx="82296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ff66"/>
                </a:solidFill>
                <a:latin typeface="Verdana"/>
              </a:rPr>
              <a:t>MODELLARSI SU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ff66"/>
                </a:solidFill>
                <a:latin typeface="Verdana"/>
              </a:rPr>
              <a:t>MISERICORDIA DEL PAD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ekton Pro"/>
              </a:rPr>
              <a:t>che ha sacrificato il Suo Figlio unigen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ekton Pro"/>
              </a:rPr>
              <a:t>per salvare l’uo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0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9" dur="2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0" dur="2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2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83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540072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me possiamo adempi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l comandam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he Gesù ci ha lasci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4"/>
          <p:cNvSpPr/>
          <p:nvPr/>
        </p:nvSpPr>
        <p:spPr>
          <a:xfrm>
            <a:off x="1763640" y="2925720"/>
            <a:ext cx="56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600" spc="-1" strike="noStrike">
                <a:solidFill>
                  <a:srgbClr val="ffff66"/>
                </a:solidFill>
                <a:latin typeface="Tekton Pro"/>
              </a:rPr>
              <a:t>“</a:t>
            </a:r>
            <a:r>
              <a:rPr b="1" lang="it-IT" sz="3600" spc="-1" strike="noStrike">
                <a:solidFill>
                  <a:srgbClr val="ffff66"/>
                </a:solidFill>
                <a:latin typeface="Tekton Pro"/>
              </a:rPr>
              <a:t>AMATEVI GLI UNI GLI ALTRI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611280" y="4726080"/>
            <a:ext cx="82803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Verdana"/>
              </a:rPr>
              <a:t>se non siamo in g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Verdana"/>
              </a:rPr>
              <a:t>di perdonare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Verdana"/>
              </a:rPr>
              <a:t>di essere misericordiosi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20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4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6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247680" y="360360"/>
            <a:ext cx="497196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DA QUANTE PAROLE SONO COMPOSTE LE  BEATITUDINI 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"/>
          <p:cNvSpPr/>
          <p:nvPr/>
        </p:nvSpPr>
        <p:spPr>
          <a:xfrm>
            <a:off x="5500800" y="266760"/>
            <a:ext cx="331920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6600" spc="-1" strike="noStrike">
                <a:solidFill>
                  <a:srgbClr val="ff0000"/>
                </a:solidFill>
                <a:latin typeface="Calibri"/>
              </a:rPr>
              <a:t>72</a:t>
            </a:r>
            <a:r>
              <a:rPr b="0" lang="it-IT" sz="6600" spc="-1" strike="noStrike">
                <a:solidFill>
                  <a:srgbClr val="ff66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ERANO I POPOLI PAGANI CONOSCIUTI ALL’EPO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QUIND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72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INDICA TUTTA L’UMAN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DI CONSEGUENZA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E I COMANDAMENTI ERANO SOLO PER IL POPOLO D’ISRAE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LE </a:t>
            </a: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BEATITUD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SONO PER </a:t>
            </a: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TU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457200" y="3500280"/>
            <a:ext cx="3008160" cy="26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2340000" y="2317680"/>
            <a:ext cx="1440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it-IT" sz="6000" spc="-1" strike="noStrike">
                <a:solidFill>
                  <a:srgbClr val="ff0000"/>
                </a:solidFill>
                <a:latin typeface="Calibri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5" descr=""/>
          <p:cNvPicPr/>
          <p:nvPr/>
        </p:nvPicPr>
        <p:blipFill>
          <a:blip r:embed="rId1"/>
          <a:stretch/>
        </p:blipFill>
        <p:spPr>
          <a:xfrm>
            <a:off x="2160720" y="3691080"/>
            <a:ext cx="1500120" cy="242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500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56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repl">
                                        <p:cTn id="1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500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56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2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2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2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20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ff66"/>
                </a:solidFill>
                <a:latin typeface="Calibri"/>
              </a:rPr>
              <a:t>Dio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nel giudizio ultimo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ff66"/>
                </a:solidFill>
                <a:latin typeface="Calibri"/>
              </a:rPr>
              <a:t>sarà misericordio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ff66"/>
                </a:solidFill>
                <a:latin typeface="Calibri"/>
              </a:rPr>
              <a:t>verso colo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he hanno vissu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un’</a:t>
            </a:r>
            <a:r>
              <a:rPr b="1" lang="it-IT" sz="3200" spc="-1" strike="noStrike">
                <a:solidFill>
                  <a:srgbClr val="ffff66"/>
                </a:solidFill>
                <a:latin typeface="Calibri"/>
              </a:rPr>
              <a:t>esisten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’</a:t>
            </a:r>
            <a:r>
              <a:rPr b="1" lang="it-IT" sz="3200" spc="-1" strike="noStrike">
                <a:solidFill>
                  <a:srgbClr val="ffff66"/>
                </a:solidFill>
                <a:latin typeface="Calibri"/>
              </a:rPr>
              <a:t>amore gratu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it-IT" sz="3200" spc="-1" strike="noStrike">
                <a:solidFill>
                  <a:srgbClr val="ffff66"/>
                </a:solidFill>
                <a:latin typeface="Calibri"/>
              </a:rPr>
              <a:t>disinteressa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0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7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4850"/>
                            </p:stCondLst>
                            <p:childTnLst>
                              <p:par>
                                <p:cTn id="7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6350"/>
                            </p:stCondLst>
                            <p:childTnLst>
                              <p:par>
                                <p:cTn id="7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8050"/>
                            </p:stCondLst>
                            <p:childTnLst>
                              <p:par>
                                <p:cTn id="75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7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7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5"/>
          <p:cNvSpPr/>
          <p:nvPr/>
        </p:nvSpPr>
        <p:spPr>
          <a:xfrm>
            <a:off x="468360" y="692280"/>
            <a:ext cx="82296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4800" spc="-1" strike="noStrike">
                <a:solidFill>
                  <a:srgbClr val="ffff66"/>
                </a:solidFill>
                <a:latin typeface="Arial"/>
              </a:rPr>
              <a:t>BEATI I</a:t>
            </a:r>
            <a:br>
              <a:rPr sz="4800"/>
            </a:br>
            <a:r>
              <a:rPr b="1" i="1" lang="it-IT" sz="4800" spc="-1" strike="noStrike">
                <a:solidFill>
                  <a:srgbClr val="ffff66"/>
                </a:solidFill>
                <a:latin typeface="Arial"/>
              </a:rPr>
              <a:t>PURI DI CUORE</a:t>
            </a:r>
            <a:br>
              <a:rPr sz="4800"/>
            </a:br>
            <a:r>
              <a:rPr b="1" i="1" lang="it-IT" sz="4800" spc="-1" strike="noStrike">
                <a:solidFill>
                  <a:srgbClr val="ffff66"/>
                </a:solidFill>
                <a:latin typeface="Arial"/>
              </a:rPr>
              <a:t>perché vedranno</a:t>
            </a:r>
            <a:br>
              <a:rPr sz="4800"/>
            </a:br>
            <a:r>
              <a:rPr b="1" i="1" lang="it-IT" sz="4800" spc="-1" strike="noStrike">
                <a:solidFill>
                  <a:srgbClr val="ffff66"/>
                </a:solidFill>
                <a:latin typeface="Arial"/>
              </a:rPr>
              <a:t>D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0B3766DC.WAV" descr=""/>
          <p:cNvPicPr/>
          <p:nvPr/>
        </p:nvPicPr>
        <p:blipFill>
          <a:blip r:embed="rId1"/>
          <a:stretch/>
        </p:blipFill>
        <p:spPr>
          <a:xfrm>
            <a:off x="8713800" y="6427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0"/>
                      </p:stCondLst>
                      <p:childTnLst>
                        <p:par>
                          <p:cTn id="7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0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1" dur="3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4" dur="2000" fill="hold"/>
                                        <p:tgtEl>
                                          <p:spTgt spid="5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Calibri"/>
              </a:rPr>
              <a:t>Per gli Ebrei il cuore non era solo la sede dei sentimenti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10312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ma la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Calibri"/>
              </a:rPr>
              <a:t>sfera più intima dell’uo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luogo dell’intelligen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luogo dove nascono i pensie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luogo dove nascono le inclinazioni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(lealtà, sincerità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0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9" dur="1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5" dur="10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07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1" dur="1000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13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7" dur="1000"/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4282560" y="4581000"/>
            <a:ext cx="4465800" cy="15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Papyrus"/>
              </a:rPr>
              <a:t>che guarda il mond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Papyrus"/>
              </a:rPr>
              <a:t>con gli occhi di Di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4"/>
          <p:cNvSpPr/>
          <p:nvPr/>
        </p:nvSpPr>
        <p:spPr>
          <a:xfrm>
            <a:off x="2484360" y="476280"/>
            <a:ext cx="432108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ff66"/>
                </a:solidFill>
                <a:latin typeface="Verdana"/>
              </a:rPr>
              <a:t>Puro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 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il </a:t>
            </a:r>
            <a:r>
              <a:rPr b="1" lang="it-IT" sz="3200" spc="-1" strike="noStrike">
                <a:solidFill>
                  <a:srgbClr val="ffff66"/>
                </a:solidFill>
                <a:latin typeface="Verdana"/>
              </a:rPr>
              <a:t>cuore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 di col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che </a:t>
            </a:r>
            <a:r>
              <a:rPr b="0" lang="it-IT" sz="3200" spc="-1" strike="noStrike" u="sng">
                <a:solidFill>
                  <a:srgbClr val="ffff66"/>
                </a:solidFill>
                <a:uFillTx/>
                <a:latin typeface="Verdana"/>
              </a:rPr>
              <a:t>accog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 u="sng">
                <a:solidFill>
                  <a:srgbClr val="ffff66"/>
                </a:solidFill>
                <a:uFillTx/>
                <a:latin typeface="Verdana"/>
              </a:rPr>
              <a:t>la stessa purez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 u="sng">
                <a:solidFill>
                  <a:srgbClr val="ffff66"/>
                </a:solidFill>
                <a:uFillTx/>
                <a:latin typeface="Verdana"/>
              </a:rPr>
              <a:t>di 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3450"/>
                            </p:stCondLst>
                            <p:childTnLst>
                              <p:par>
                                <p:cTn id="829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5450"/>
                            </p:stCondLst>
                            <p:childTnLst>
                              <p:par>
                                <p:cTn id="835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2052720" y="549360"/>
            <a:ext cx="54720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Calibri"/>
              </a:rPr>
              <a:t>L’uomo che ama D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Calibri"/>
              </a:rPr>
              <a:t>è ansioso di contemplar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541440" y="2421000"/>
            <a:ext cx="82072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Egli però </a:t>
            </a:r>
            <a:r>
              <a:rPr b="1" lang="it-IT" sz="2800" spc="-1" strike="noStrike">
                <a:solidFill>
                  <a:srgbClr val="ffff66"/>
                </a:solidFill>
                <a:latin typeface="Verdana"/>
              </a:rPr>
              <a:t>sfug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Verdana"/>
              </a:rPr>
              <a:t>agli occhi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dei mort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erch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finché saremo pellegr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su questa terr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non potremo fare al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che </a:t>
            </a:r>
            <a:r>
              <a:rPr b="1" lang="it-IT" sz="2800" spc="-1" strike="noStrike">
                <a:solidFill>
                  <a:srgbClr val="ffff66"/>
                </a:solidFill>
                <a:latin typeface="Verdana"/>
              </a:rPr>
              <a:t>sospir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Verdana"/>
              </a:rPr>
              <a:t>e tendere a 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nodeType="clickEffect" fill="hold">
                      <p:stCondLst>
                        <p:cond delay="0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45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780"/>
                            </p:stCondLst>
                            <p:childTnLst>
                              <p:par>
                                <p:cTn id="847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48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8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57200" y="3068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8440" indent="0" algn="ctr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a Sua </a:t>
            </a:r>
            <a:r>
              <a:rPr b="1" lang="it-IT" sz="2400" spc="-1" strike="noStrike">
                <a:solidFill>
                  <a:srgbClr val="ffff66"/>
                </a:solidFill>
                <a:latin typeface="Calibri"/>
              </a:rPr>
              <a:t>vision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è </a:t>
            </a:r>
            <a:r>
              <a:rPr b="1" lang="it-IT" sz="2400" spc="-1" strike="noStrike">
                <a:solidFill>
                  <a:srgbClr val="ffff66"/>
                </a:solidFill>
                <a:latin typeface="Calibri"/>
              </a:rPr>
              <a:t>riservata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nell’eternità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alibri"/>
              </a:rPr>
              <a:t>come </a:t>
            </a:r>
            <a:r>
              <a:rPr b="1" lang="it-IT" sz="2400" spc="-1" strike="noStrike" u="sng">
                <a:solidFill>
                  <a:srgbClr val="ffff66"/>
                </a:solidFill>
                <a:uFillTx/>
                <a:latin typeface="Calibri"/>
              </a:rPr>
              <a:t>prem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er coloro c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urante la vita terre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non hanno fatto alt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he continuare a </a:t>
            </a:r>
            <a:r>
              <a:rPr b="1" lang="it-IT" sz="2400" spc="-1" strike="noStrike">
                <a:solidFill>
                  <a:srgbClr val="ffff66"/>
                </a:solidFill>
                <a:latin typeface="Calibri"/>
              </a:rPr>
              <a:t>cercar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alibri"/>
              </a:rPr>
              <a:t>con cuore puro e since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4"/>
          <p:cNvSpPr/>
          <p:nvPr/>
        </p:nvSpPr>
        <p:spPr>
          <a:xfrm>
            <a:off x="539640" y="765000"/>
            <a:ext cx="82296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600" spc="-1" strike="noStrike">
                <a:solidFill>
                  <a:srgbClr val="ffff66"/>
                </a:solidFill>
                <a:latin typeface="Tekton Pro"/>
              </a:rPr>
              <a:t>Dio è purezza immacolat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non può essere vi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da occhi impu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che riflettono cuori impu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0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8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8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8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8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8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8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8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8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8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8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8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8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8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7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8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8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8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8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8" dur="2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9" dur="2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0" dur="2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9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4" dur="2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5" dur="2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2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9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0" dur="2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1" dur="2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2" dur="2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6" dur="2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7" dur="2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8" dur="2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nodeType="afterEffect" fill="hold">
                            <p:stCondLst>
                              <p:cond delay="11800"/>
                            </p:stCondLst>
                            <p:childTnLst>
                              <p:par>
                                <p:cTn id="9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2" dur="20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3" dur="20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4" dur="20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13900"/>
                            </p:stCondLst>
                            <p:childTnLst>
                              <p:par>
                                <p:cTn id="9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2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2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2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9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4" dur="200"/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5" dur="200"/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6" dur="200"/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9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0" dur="2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1" dur="2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2" dur="2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34560" y="1341000"/>
            <a:ext cx="8713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just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Solo quando il cuore è purificato da ogni forma di inclinazioni e di pensieri cattivi, egoistici e disordina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ff0000"/>
                </a:solidFill>
                <a:latin typeface="Calibri"/>
              </a:rPr>
              <a:t>adulte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ff0000"/>
                </a:solidFill>
                <a:latin typeface="Calibri"/>
              </a:rPr>
              <a:t>fur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ff0000"/>
                </a:solidFill>
                <a:latin typeface="Calibri"/>
              </a:rPr>
              <a:t>false testimonian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ff0000"/>
                </a:solidFill>
                <a:latin typeface="Calibri"/>
              </a:rPr>
              <a:t>bestemm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4"/>
          <p:cNvSpPr/>
          <p:nvPr/>
        </p:nvSpPr>
        <p:spPr>
          <a:xfrm>
            <a:off x="468360" y="4076640"/>
            <a:ext cx="82296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600" spc="-1" strike="noStrike">
                <a:solidFill>
                  <a:srgbClr val="ffff66"/>
                </a:solidFill>
                <a:latin typeface="Tekton Pro"/>
              </a:rPr>
              <a:t>possiamo dire c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600" spc="-1" strike="noStrike">
                <a:solidFill>
                  <a:srgbClr val="ffff66"/>
                </a:solidFill>
                <a:latin typeface="Tekton Pro"/>
              </a:rPr>
              <a:t>tutte le azioni dell’u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600" spc="-1" strike="noStrike">
                <a:solidFill>
                  <a:srgbClr val="ffff66"/>
                </a:solidFill>
                <a:latin typeface="Tekton Pro"/>
              </a:rPr>
              <a:t>riflettono la purezza di 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nodeType="clickEffect" fill="hold">
                      <p:stCondLst>
                        <p:cond delay="0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9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6950"/>
                            </p:stCondLst>
                            <p:childTnLst>
                              <p:par>
                                <p:cTn id="9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8150"/>
                            </p:stCondLst>
                            <p:childTnLst>
                              <p:par>
                                <p:cTn id="9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982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8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5" dur="8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8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8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9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8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8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8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8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14400"/>
                            </p:stCondLst>
                            <p:childTnLst>
                              <p:par>
                                <p:cTn id="100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8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3" dur="8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8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8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8440" indent="0" algn="ctr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Papyrus"/>
              </a:rPr>
              <a:t>La PUREZZA DEL CU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Papyrus"/>
              </a:rPr>
              <a:t>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Papyrus"/>
              </a:rPr>
              <a:t>la LU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Papyrus"/>
              </a:rPr>
              <a:t>che apre gli occhi dell’uo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Papyrus"/>
              </a:rPr>
              <a:t>sulle cose div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Papyrus"/>
              </a:rPr>
              <a:t>e lo disp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Papyrus"/>
              </a:rPr>
              <a:t>alla visione di D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250920" y="429264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’</a:t>
            </a:r>
            <a:r>
              <a:rPr b="1" lang="it-IT" sz="2800" spc="-1" strike="noStrike">
                <a:solidFill>
                  <a:srgbClr val="ffff66"/>
                </a:solidFill>
                <a:latin typeface="Verdana"/>
              </a:rPr>
              <a:t>occhio puro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è la </a:t>
            </a:r>
            <a:r>
              <a:rPr b="1" lang="it-IT" sz="2800" spc="-1" strike="noStrike">
                <a:solidFill>
                  <a:srgbClr val="ffff66"/>
                </a:solidFill>
                <a:latin typeface="Verdana"/>
              </a:rPr>
              <a:t>lucerna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che </a:t>
            </a:r>
            <a:r>
              <a:rPr b="1" lang="it-IT" sz="2800" spc="-1" strike="noStrike">
                <a:solidFill>
                  <a:srgbClr val="ffff66"/>
                </a:solidFill>
                <a:latin typeface="Verdana"/>
              </a:rPr>
              <a:t>indica la via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al cristiano per poter giungere alla visione eterna e gliela fa intravedere già su questa ter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5" descr="luce"/>
          <p:cNvPicPr/>
          <p:nvPr/>
        </p:nvPicPr>
        <p:blipFill>
          <a:blip r:embed="rId1"/>
          <a:stretch/>
        </p:blipFill>
        <p:spPr>
          <a:xfrm>
            <a:off x="6732720" y="1484280"/>
            <a:ext cx="2166840" cy="25225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nodeType="clickEffect" fill="hold">
                      <p:stCondLst>
                        <p:cond delay="0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3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1014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610920" y="54936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uomo riempiendo il proprio cu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e i propri occhi delle cose terren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82560" y="2708280"/>
            <a:ext cx="77770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ff66"/>
                </a:solidFill>
                <a:latin typeface="Verdana"/>
              </a:rPr>
              <a:t>NON È IN GRADO 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ff66"/>
                </a:solidFill>
                <a:latin typeface="Verdana"/>
              </a:rPr>
              <a:t>CONTEMPLARE 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i chiude alle comunicazioni intime con 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5"/>
          <p:cNvSpPr/>
          <p:nvPr/>
        </p:nvSpPr>
        <p:spPr>
          <a:xfrm>
            <a:off x="-142920" y="4797360"/>
            <a:ext cx="9036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it-IT" sz="2400" spc="-1" strike="noStrike" u="sng">
                <a:solidFill>
                  <a:srgbClr val="ff0000"/>
                </a:solidFill>
                <a:uFillTx/>
                <a:latin typeface="Verdana"/>
              </a:rPr>
              <a:t>Se sono rari coloro a cui Dio si manifesta, è perché sono pochi coloro che veramente lo cercano con cuore p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nodeType="clickEffect" fill="hold">
                      <p:stCondLst>
                        <p:cond delay="0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2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20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10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6" dur="2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7" dur="2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8" dur="2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324000" y="807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it-IT" sz="3200" spc="-1" strike="noStrike">
                <a:solidFill>
                  <a:srgbClr val="ffff66"/>
                </a:solidFill>
                <a:latin typeface="Calibri"/>
              </a:rPr>
              <a:t>PURI DI CUORE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sono coloro che </a:t>
            </a:r>
            <a:r>
              <a:rPr b="1" lang="it-IT" sz="3200" spc="-1" strike="noStrike">
                <a:solidFill>
                  <a:srgbClr val="ffff66"/>
                </a:solidFill>
                <a:latin typeface="Calibri"/>
              </a:rPr>
              <a:t>sanno accettare l’insegnamento di Gesù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, che sono pronti a seguir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3780000" y="3357720"/>
            <a:ext cx="453708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ekton Pro"/>
              </a:rPr>
              <a:t>Questa beatitud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ekton Pro"/>
              </a:rPr>
              <a:t>richie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ekton Pro"/>
              </a:rPr>
              <a:t>la </a:t>
            </a:r>
            <a:r>
              <a:rPr b="1" lang="it-IT" sz="4000" spc="-1" strike="noStrike">
                <a:solidFill>
                  <a:srgbClr val="ff0000"/>
                </a:solidFill>
                <a:latin typeface="Tekton Pro"/>
              </a:rPr>
              <a:t>piena ades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Tekton Pro"/>
              </a:rPr>
              <a:t>al Vange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nodeType="clickEffect" fill="hold">
                      <p:stCondLst>
                        <p:cond delay="0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9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8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8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8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8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8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8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8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8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8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8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8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8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8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9" dur="8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8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8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1" descr=""/>
          <p:cNvPicPr/>
          <p:nvPr/>
        </p:nvPicPr>
        <p:blipFill>
          <a:blip r:embed="rId1"/>
          <a:stretch/>
        </p:blipFill>
        <p:spPr>
          <a:xfrm>
            <a:off x="928800" y="2571840"/>
            <a:ext cx="2820960" cy="37684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"/>
          <p:cNvPicPr/>
          <p:nvPr/>
        </p:nvPicPr>
        <p:blipFill>
          <a:blip r:embed="rId2"/>
          <a:stretch/>
        </p:blipFill>
        <p:spPr>
          <a:xfrm>
            <a:off x="4929120" y="2500200"/>
            <a:ext cx="3460680" cy="395136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3"/>
          <p:cNvSpPr/>
          <p:nvPr/>
        </p:nvSpPr>
        <p:spPr>
          <a:xfrm>
            <a:off x="635040" y="0"/>
            <a:ext cx="1886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MOS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460440" y="720720"/>
            <a:ext cx="404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E NELLE TAVOLE DELLA LEGGE SI DICE DI NON UCCIDERE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4500720" y="720720"/>
            <a:ext cx="450036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GESÙ CI DICE MOLTO DI PIÙ E CI INVITA A </a:t>
            </a:r>
            <a:r>
              <a:rPr b="0" lang="it-IT" sz="3200" spc="-1" strike="noStrike">
                <a:solidFill>
                  <a:srgbClr val="ff0000"/>
                </a:solidFill>
                <a:latin typeface="Calibri"/>
              </a:rPr>
              <a:t>DONARE LA VITA      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ER GLI ALT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4802040" y="71280"/>
            <a:ext cx="14972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GES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4"/>
          <p:cNvSpPr/>
          <p:nvPr/>
        </p:nvSpPr>
        <p:spPr>
          <a:xfrm>
            <a:off x="468360" y="1052640"/>
            <a:ext cx="82296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4800" spc="-1" strike="noStrike">
                <a:solidFill>
                  <a:srgbClr val="ffff66"/>
                </a:solidFill>
                <a:latin typeface="Arial"/>
              </a:rPr>
              <a:t>BEATI GLI</a:t>
            </a:r>
            <a:br>
              <a:rPr sz="4800"/>
            </a:br>
            <a:r>
              <a:rPr b="1" i="1" lang="it-IT" sz="4800" spc="-1" strike="noStrike">
                <a:solidFill>
                  <a:srgbClr val="ffff66"/>
                </a:solidFill>
                <a:latin typeface="Arial"/>
              </a:rPr>
              <a:t>OPERATORI</a:t>
            </a:r>
            <a:br>
              <a:rPr sz="4800"/>
            </a:br>
            <a:r>
              <a:rPr b="1" i="1" lang="it-IT" sz="4800" spc="-1" strike="noStrike">
                <a:solidFill>
                  <a:srgbClr val="ffff66"/>
                </a:solidFill>
                <a:latin typeface="Arial"/>
              </a:rPr>
              <a:t>DI PACE</a:t>
            </a:r>
            <a:br>
              <a:rPr sz="4800"/>
            </a:br>
            <a:r>
              <a:rPr b="1" i="1" lang="it-IT" sz="4800" spc="-1" strike="noStrike">
                <a:solidFill>
                  <a:srgbClr val="ffff66"/>
                </a:solidFill>
                <a:latin typeface="Arial"/>
              </a:rPr>
              <a:t>perché</a:t>
            </a:r>
            <a:br>
              <a:rPr sz="4800"/>
            </a:br>
            <a:r>
              <a:rPr b="1" i="1" lang="it-IT" sz="4800" spc="-1" strike="noStrike">
                <a:solidFill>
                  <a:srgbClr val="ffff66"/>
                </a:solidFill>
                <a:latin typeface="Arial"/>
              </a:rPr>
              <a:t>saranno chiamati</a:t>
            </a:r>
            <a:br>
              <a:rPr sz="4800"/>
            </a:br>
            <a:r>
              <a:rPr b="1" i="1" lang="it-IT" sz="4800" spc="-1" strike="noStrike">
                <a:solidFill>
                  <a:srgbClr val="ffff66"/>
                </a:solidFill>
                <a:latin typeface="Arial"/>
              </a:rPr>
              <a:t>Figli di D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4781D553.WAV" descr=""/>
          <p:cNvPicPr/>
          <p:nvPr/>
        </p:nvPicPr>
        <p:blipFill>
          <a:blip r:embed="rId1"/>
          <a:stretch/>
        </p:blipFill>
        <p:spPr>
          <a:xfrm>
            <a:off x="8713800" y="6427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nodeType="clickEffect" fill="hold">
                      <p:stCondLst>
                        <p:cond delay="0"/>
                      </p:stCondLst>
                      <p:childTnLst>
                        <p:par>
                          <p:cTn id="10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2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3" dur="3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6" dur="2000" fill="hold"/>
                                        <p:tgtEl>
                                          <p:spTgt spid="5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Ges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roclama bea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oloro che </a:t>
            </a: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costruiscono la pace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ossia la </a:t>
            </a:r>
            <a:r>
              <a:rPr b="0" lang="it-IT" sz="3200" spc="-1" strike="noStrike" u="sng">
                <a:solidFill>
                  <a:srgbClr val="ffff66"/>
                </a:solidFill>
                <a:uFillTx/>
                <a:latin typeface="Calibri"/>
              </a:rPr>
              <a:t>mancan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 u="sng">
                <a:solidFill>
                  <a:srgbClr val="ffff66"/>
                </a:solidFill>
                <a:uFillTx/>
                <a:latin typeface="Calibri"/>
              </a:rPr>
              <a:t>di inimicizia con D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 u="sng">
                <a:solidFill>
                  <a:srgbClr val="ffff66"/>
                </a:solidFill>
                <a:uFillTx/>
                <a:latin typeface="Calibri"/>
              </a:rPr>
              <a:t>e con le sue cr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nodeType="clickEffect" fill="hold">
                      <p:stCondLst>
                        <p:cond delay="0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3" dur="2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4" dur="2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5" dur="2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9" dur="2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0" dur="2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1" dur="2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1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5" dur="2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6" dur="2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7" dur="2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1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1" dur="2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2" dur="2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3" dur="2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1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7" dur="2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8" dur="2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9" dur="2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8300"/>
                            </p:stCondLst>
                            <p:childTnLst>
                              <p:par>
                                <p:cTn id="11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3" dur="200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4" dur="200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5" dur="200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Calibri"/>
              </a:rPr>
              <a:t>Gesù non è una persona tranquill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24000" y="1922400"/>
            <a:ext cx="84960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urante la sua v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è continuamente in lotta cont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i="1" lang="it-IT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i="1" lang="it-IT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i="1" lang="it-IT" sz="2800" spc="-1" strike="noStrike">
                <a:solidFill>
                  <a:srgbClr val="ff0000"/>
                </a:solidFill>
                <a:latin typeface="Calibri"/>
              </a:rPr>
              <a:t>il potere religioso (sommi sacerdot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i="1" lang="it-IT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i="1" lang="it-IT" sz="2800" spc="-1" strike="noStrike">
                <a:solidFill>
                  <a:srgbClr val="ff0000"/>
                </a:solidFill>
                <a:latin typeface="Calibri"/>
              </a:rPr>
              <a:t>il potere culturale (scribi e farise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i="1" lang="it-IT" sz="2800" spc="-1" strike="noStrike">
                <a:solidFill>
                  <a:srgbClr val="ff0000"/>
                </a:solidFill>
                <a:latin typeface="Calibri"/>
              </a:rPr>
              <a:t>il potere civile (Erode e Pilat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he opprimono i poveri e i debo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nodeType="clickEffect" fill="hold">
                      <p:stCondLst>
                        <p:cond delay="0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-0.00555 L 0 -0.07778 E">
                                      <p:cBhvr>
                                        <p:cTn id="11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5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5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5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5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1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3850"/>
                            </p:stCondLst>
                            <p:childTnLst>
                              <p:par>
                                <p:cTn id="1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3" dur="20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5850"/>
                            </p:stCondLst>
                            <p:childTnLst>
                              <p:par>
                                <p:cTn id="1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20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nodeType="afterEffect" fill="hold">
                            <p:stCondLst>
                              <p:cond delay="7850"/>
                            </p:stCondLst>
                            <p:childTnLst>
                              <p:par>
                                <p:cTn id="1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2000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nodeType="afterEffect" fill="hold">
                            <p:stCondLst>
                              <p:cond delay="9850"/>
                            </p:stCondLst>
                            <p:childTnLst>
                              <p:par>
                                <p:cTn id="1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5" dur="2000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nodeType="afterEffect" fill="hold">
                            <p:stCondLst>
                              <p:cond delay="11850"/>
                            </p:stCondLst>
                            <p:childTnLst>
                              <p:par>
                                <p:cTn id="1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2000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Nessuna illusione!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1280" y="1989000"/>
            <a:ext cx="89647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Egli non promette la pace nel mon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ma la Sua pac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quella che ha portato ogni gior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er le strade della Palest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Picture 4" descr="2119"/>
          <p:cNvPicPr/>
          <p:nvPr/>
        </p:nvPicPr>
        <p:blipFill>
          <a:blip r:embed="rId1"/>
          <a:stretch/>
        </p:blipFill>
        <p:spPr>
          <a:xfrm>
            <a:off x="4930920" y="4500720"/>
            <a:ext cx="3097080" cy="218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nodeType="clickEffect" fill="hold">
                      <p:stCondLst>
                        <p:cond delay="0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5" dur="2000" fill="hold"/>
                                        <p:tgtEl>
                                          <p:spTgt spid="5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9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19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11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120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7" dur="10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>
                <a:solidFill>
                  <a:srgbClr val="ffff66"/>
                </a:solidFill>
                <a:latin typeface="Calibri"/>
              </a:rPr>
              <a:t>Gesù stesso intraprende una</a:t>
            </a:r>
            <a:br>
              <a:rPr sz="4000"/>
            </a:br>
            <a:r>
              <a:rPr b="1" lang="it-IT" sz="4000" spc="-1" strike="noStrike">
                <a:solidFill>
                  <a:srgbClr val="ffff66"/>
                </a:solidFill>
                <a:latin typeface="Calibri"/>
              </a:rPr>
              <a:t>guerra continua (anche se non</a:t>
            </a:r>
            <a:br>
              <a:rPr sz="4000"/>
            </a:br>
            <a:r>
              <a:rPr b="1" lang="it-IT" sz="4000" spc="-1" strike="noStrike">
                <a:solidFill>
                  <a:srgbClr val="ffff66"/>
                </a:solidFill>
                <a:latin typeface="Calibri"/>
              </a:rPr>
              <a:t>c’è spargimento di sangu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2493720"/>
            <a:ext cx="822960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fferma che “non è venuto a portare la pace, ma una spada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messaggio metafor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er far comprendere quanto gli operatori di pace dovranno faticare, credere e combatt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nodeType="clickEffect" fill="hold">
                      <p:stCondLst>
                        <p:cond delay="0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12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" dur="10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2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1000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alibri"/>
              </a:rPr>
              <a:t>FACCIAMO UNA DISTINZI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08520" indent="0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Calibri"/>
              </a:rPr>
              <a:t>PACIF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è una persona accomodant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questo è un atteggiam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bagliato di colui che s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disinteres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Calibri"/>
              </a:rPr>
              <a:t>OPERATORE DI P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è colui che, per portare felicità 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pace agli altri, crea anche dissens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e lotta, rischiando di perd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nche la propria p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nodeType="clickEffect" fill="hold">
                      <p:stCondLst>
                        <p:cond delay="0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4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4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5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5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12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7" dur="10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125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10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nodeType="afterEffect" fill="hold">
                            <p:stCondLst>
                              <p:cond delay="3550"/>
                            </p:stCondLst>
                            <p:childTnLst>
                              <p:par>
                                <p:cTn id="126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9" dur="100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nodeType="afterEffect" fill="hold">
                            <p:stCondLst>
                              <p:cond delay="4550"/>
                            </p:stCondLst>
                            <p:childTnLst>
                              <p:par>
                                <p:cTn id="12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5" dur="1000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nodeType="afterEffect" fill="hold">
                            <p:stCondLst>
                              <p:cond delay="5550"/>
                            </p:stCondLst>
                            <p:childTnLst>
                              <p:par>
                                <p:cTn id="12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1" dur="1000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nodeType="afterEffect" fill="hold">
                            <p:stCondLst>
                              <p:cond delay="6550"/>
                            </p:stCondLst>
                            <p:childTnLst>
                              <p:par>
                                <p:cTn id="128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7" dur="1000"/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7550"/>
                            </p:stCondLst>
                            <p:childTnLst>
                              <p:par>
                                <p:cTn id="128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3" dur="1000"/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nodeType="afterEffect" fill="hold">
                            <p:stCondLst>
                              <p:cond delay="8550"/>
                            </p:stCondLst>
                            <p:childTnLst>
                              <p:par>
                                <p:cTn id="129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9" dur="1000"/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nodeType="afterEffect" fill="hold">
                            <p:stCondLst>
                              <p:cond delay="9550"/>
                            </p:stCondLst>
                            <p:childTnLst>
                              <p:par>
                                <p:cTn id="130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5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5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5" dur="1000"/>
                                        <p:tgtEl>
                                          <p:spTgt spid="5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nodeType="afterEffect" fill="hold">
                            <p:stCondLst>
                              <p:cond delay="10550"/>
                            </p:stCondLst>
                            <p:childTnLst>
                              <p:par>
                                <p:cTn id="130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5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5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1" dur="1000"/>
                                        <p:tgtEl>
                                          <p:spTgt spid="5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-36720" y="1196640"/>
            <a:ext cx="8713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l </a:t>
            </a:r>
            <a:r>
              <a:rPr b="1" lang="it-IT" sz="3200" spc="-1" strike="noStrike">
                <a:solidFill>
                  <a:srgbClr val="ffff66"/>
                </a:solidFill>
                <a:latin typeface="Calibri"/>
              </a:rPr>
              <a:t>vero discepolo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di Gesù </a:t>
            </a:r>
            <a:r>
              <a:rPr b="1" lang="it-IT" sz="3200" spc="-1" strike="noStrike">
                <a:solidFill>
                  <a:srgbClr val="ffff66"/>
                </a:solidFill>
                <a:latin typeface="Calibri"/>
              </a:rPr>
              <a:t>non può aspettare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che siano gli altri a fare la pace e tanto meno può esigere che la pace sia fatta a spese altrui, ma </a:t>
            </a:r>
            <a:r>
              <a:rPr b="1" lang="it-IT" sz="3200" spc="-1" strike="noStrike">
                <a:solidFill>
                  <a:srgbClr val="ffff66"/>
                </a:solidFill>
                <a:latin typeface="Calibri"/>
              </a:rPr>
              <a:t>deve prendere l’iniziativa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, rinunciando a favore dei fratelli ai propri interessi e anche ai propri diritti personali, quando questi ostacolano o intralciano quelli altru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nodeType="clickEffect" fill="hold">
                      <p:stCondLst>
                        <p:cond delay="0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Chi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in una comunità o società in lotta </a:t>
            </a: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si chiude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nel suo guscio senza fare nulla, non può essere definito un operatore di pace, ma un </a:t>
            </a: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egois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539640" y="3213000"/>
            <a:ext cx="345600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Il vero opera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di 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non può god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della pace 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intorno a l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c’è la guer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4427640" y="3213000"/>
            <a:ext cx="4557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Deve fare tutto ci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che dipende da l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er promuov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a pace, anche 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questo signif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sacrificio pers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nodeType="clickEffect" fill="hold">
                      <p:stCondLst>
                        <p:cond delay="0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1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600" spc="-1" strike="noStrike">
                <a:solidFill>
                  <a:srgbClr val="ffff66"/>
                </a:solidFill>
                <a:latin typeface="Calibri"/>
              </a:rPr>
              <a:t>Gesù proclama bea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684360" y="1484280"/>
            <a:ext cx="82803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coloro che si adoper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er la concordia tra gli uomin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coloro che edificano faticos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a pace tra i singol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tra i gruppi sociali e tra i popol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coloro che compi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gesti di riconciliazione uman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ricucendo fili spezzati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consolidano legami allent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684360" y="1486080"/>
            <a:ext cx="8229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1" dur="indefinite" restart="never" nodeType="tmRoot">
          <p:childTnLst>
            <p:seq>
              <p:cTn id="1342" dur="indefinite" nodeType="mainSeq">
                <p:childTnLst>
                  <p:par>
                    <p:cTn id="1343" nodeType="clickEffect" fill="hold">
                      <p:stCondLst>
                        <p:cond delay="0"/>
                      </p:stCondLst>
                      <p:childTnLst>
                        <p:par>
                          <p:cTn id="1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9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3" dur="2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4" dur="2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5" dur="2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4"/>
          <p:cNvSpPr/>
          <p:nvPr/>
        </p:nvSpPr>
        <p:spPr>
          <a:xfrm>
            <a:off x="468360" y="836640"/>
            <a:ext cx="82296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4800" spc="-1" strike="noStrike">
                <a:solidFill>
                  <a:srgbClr val="ffff66"/>
                </a:solidFill>
                <a:latin typeface="Arial"/>
              </a:rPr>
              <a:t>BEATI I</a:t>
            </a:r>
            <a:br>
              <a:rPr sz="4800"/>
            </a:br>
            <a:r>
              <a:rPr b="1" i="1" lang="it-IT" sz="4800" spc="-1" strike="noStrike">
                <a:solidFill>
                  <a:srgbClr val="ffff66"/>
                </a:solidFill>
                <a:latin typeface="Arial"/>
              </a:rPr>
              <a:t>PERSEGUITATI</a:t>
            </a:r>
            <a:br>
              <a:rPr sz="4800"/>
            </a:br>
            <a:r>
              <a:rPr b="1" i="1" lang="it-IT" sz="4800" spc="-1" strike="noStrike">
                <a:solidFill>
                  <a:srgbClr val="ffff66"/>
                </a:solidFill>
                <a:latin typeface="Arial"/>
              </a:rPr>
              <a:t>PER CAUSA</a:t>
            </a:r>
            <a:br>
              <a:rPr sz="4800"/>
            </a:br>
            <a:r>
              <a:rPr b="1" i="1" lang="it-IT" sz="4800" spc="-1" strike="noStrike">
                <a:solidFill>
                  <a:srgbClr val="ffff66"/>
                </a:solidFill>
                <a:latin typeface="Arial"/>
              </a:rPr>
              <a:t>DELLA GIUSTIZIA</a:t>
            </a:r>
            <a:br>
              <a:rPr sz="4800"/>
            </a:br>
            <a:r>
              <a:rPr b="1" i="1" lang="it-IT" sz="4800" spc="-1" strike="noStrike">
                <a:solidFill>
                  <a:srgbClr val="ffff66"/>
                </a:solidFill>
                <a:latin typeface="Arial"/>
              </a:rPr>
              <a:t>perché di essi è</a:t>
            </a:r>
            <a:br>
              <a:rPr sz="4800"/>
            </a:br>
            <a:r>
              <a:rPr b="1" i="1" lang="it-IT" sz="4800" spc="-1" strike="noStrike">
                <a:solidFill>
                  <a:srgbClr val="ffff66"/>
                </a:solidFill>
                <a:latin typeface="Arial"/>
              </a:rPr>
              <a:t>il Regno dei Ciel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993B4935.WAV" descr=""/>
          <p:cNvPicPr/>
          <p:nvPr/>
        </p:nvPicPr>
        <p:blipFill>
          <a:blip r:embed="rId1"/>
          <a:stretch/>
        </p:blipFill>
        <p:spPr>
          <a:xfrm>
            <a:off x="8713800" y="6427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356" dur="indefinite" restart="never" nodeType="tmRoot">
          <p:childTnLst>
            <p:seq>
              <p:cTn id="1357" dur="indefinite" nodeType="mainSeq">
                <p:childTnLst>
                  <p:par>
                    <p:cTn id="1358" nodeType="clickEffect" fill="hold">
                      <p:stCondLst>
                        <p:cond delay="0"/>
                      </p:stCondLst>
                      <p:childTnLst>
                        <p:par>
                          <p:cTn id="13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4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5" dur="3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8" dur="2000" fill="hold"/>
                                        <p:tgtEl>
                                          <p:spTgt spid="5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1" descr=""/>
          <p:cNvPicPr/>
          <p:nvPr/>
        </p:nvPicPr>
        <p:blipFill>
          <a:blip r:embed="rId1"/>
          <a:stretch/>
        </p:blipFill>
        <p:spPr>
          <a:xfrm>
            <a:off x="5651640" y="3549600"/>
            <a:ext cx="2666880" cy="30448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1000080" y="2500200"/>
            <a:ext cx="3022560" cy="395136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3"/>
          <p:cNvSpPr/>
          <p:nvPr/>
        </p:nvSpPr>
        <p:spPr>
          <a:xfrm>
            <a:off x="457200" y="274680"/>
            <a:ext cx="18828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MOS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4"/>
          <p:cNvSpPr/>
          <p:nvPr/>
        </p:nvSpPr>
        <p:spPr>
          <a:xfrm>
            <a:off x="279360" y="835200"/>
            <a:ext cx="4040280" cy="16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E NELLE TAVOLE DELLA LEGGE SI DICE DI NON RUBARE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4319640" y="863640"/>
            <a:ext cx="468000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GESÙ CI DICE MOLTO DI PIÙ E CI INVITA A </a:t>
            </a:r>
            <a:r>
              <a:rPr b="0" lang="it-IT" sz="3200" spc="-1" strike="noStrike">
                <a:solidFill>
                  <a:srgbClr val="ff0000"/>
                </a:solidFill>
                <a:latin typeface="Calibri"/>
              </a:rPr>
              <a:t>CONDIVIDERE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QUELLO CHE ABBIAMO CON GLI ALT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4680000" y="179280"/>
            <a:ext cx="155736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GES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457200" y="90972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Papyrus"/>
              </a:rPr>
              <a:t>Per GIUSTIZ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Papyrus"/>
              </a:rPr>
              <a:t>si inten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Papyrus"/>
              </a:rPr>
              <a:t>la conformit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Papyrus"/>
              </a:rPr>
              <a:t>tra la situazio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Papyrus"/>
              </a:rPr>
              <a:t>sulla terra 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Papyrus"/>
              </a:rPr>
              <a:t>il progetto di Di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Papyrus"/>
              </a:rPr>
              <a:t>sugli uomin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nodeType="clickEffect" fill="hold">
                      <p:stCondLst>
                        <p:cond delay="0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7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3" dur="10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9" dur="10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5" dur="1000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1" dur="1000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7" dur="1000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3" dur="1000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Calibri"/>
              </a:rPr>
              <a:t>Gesù non illude i suoi discepol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50752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dice loro che saranno perseguita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ffff66"/>
                </a:solidFill>
                <a:latin typeface="Calibri"/>
              </a:rPr>
              <a:t>perché coloro che vogliono il bene per tutti, sono inesorabilmente visti come quelli che tolgono una fetta di bene a chi vorrebbe tutta la torta per sé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Si possono toccare i privilegi degli altri, ma guai a toccare i nostri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14" dur="indefinite" restart="never" nodeType="tmRoot">
          <p:childTnLst>
            <p:seq>
              <p:cTn id="1415" dur="indefinite" nodeType="mainSeq">
                <p:childTnLst>
                  <p:par>
                    <p:cTn id="1416" nodeType="clickEffect" fill="hold">
                      <p:stCondLst>
                        <p:cond delay="0"/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1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nodeType="afterEffect" fill="hold">
                            <p:stCondLst>
                              <p:cond delay="1020"/>
                            </p:stCondLst>
                            <p:childTnLst>
                              <p:par>
                                <p:cTn id="14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6" dur="10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nodeType="afterEffect" fill="hold">
                            <p:stCondLst>
                              <p:cond delay="3470"/>
                            </p:stCondLst>
                            <p:childTnLst>
                              <p:par>
                                <p:cTn id="14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0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10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3" dur="10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nodeType="afterEffect" fill="hold">
                            <p:stCondLst>
                              <p:cond delay="10720"/>
                            </p:stCondLst>
                            <p:childTnLst>
                              <p:par>
                                <p:cTn id="14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0" dur="1000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Calibri"/>
              </a:rPr>
              <a:t>Gesù è stato chiar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seguire Lui signif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prendere la cro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t-IT" sz="3200" spc="-1" strike="noStrike">
                <a:solidFill>
                  <a:srgbClr val="000000"/>
                </a:solidFill>
                <a:latin typeface="Tempus Sans ITC"/>
              </a:rPr>
              <a:t>Molte volte ha predet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i="1" lang="it-IT" sz="32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i="1" lang="it-IT" sz="32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i="1" lang="it-IT" sz="32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i="1" lang="it-IT" sz="3200" spc="-1" strike="noStrike">
                <a:solidFill>
                  <a:srgbClr val="000000"/>
                </a:solidFill>
                <a:latin typeface="Tempus Sans ITC"/>
              </a:rPr>
              <a:t>ai suoi discepoli 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i="1" lang="it-IT" sz="32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i="1" lang="it-IT" sz="32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i="1" lang="it-IT" sz="32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i="1" lang="it-IT" sz="3200" spc="-1" strike="noStrike">
                <a:solidFill>
                  <a:srgbClr val="000000"/>
                </a:solidFill>
                <a:latin typeface="Tempus Sans ITC"/>
              </a:rPr>
              <a:t>sarebbe loro tocc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i="1" lang="it-IT" sz="32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i="1" lang="it-IT" sz="32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i="1" lang="it-IT" sz="32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i="1" lang="it-IT" sz="3200" spc="-1" strike="noStrike">
                <a:solidFill>
                  <a:srgbClr val="000000"/>
                </a:solidFill>
                <a:latin typeface="Tempus Sans ITC"/>
              </a:rPr>
              <a:t>la Sua stessa sor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5" descr="0535"/>
          <p:cNvPicPr/>
          <p:nvPr/>
        </p:nvPicPr>
        <p:blipFill>
          <a:blip r:embed="rId1"/>
          <a:stretch/>
        </p:blipFill>
        <p:spPr>
          <a:xfrm>
            <a:off x="5724360" y="1557360"/>
            <a:ext cx="2457720" cy="17683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iming>
    <p:tnLst>
      <p:par>
        <p:cTn id="1441" dur="indefinite" restart="never" nodeType="tmRoot">
          <p:childTnLst>
            <p:seq>
              <p:cTn id="1442" dur="indefinite" nodeType="mainSeq">
                <p:childTnLst>
                  <p:par>
                    <p:cTn id="1443" nodeType="clickEffect" fill="hold">
                      <p:stCondLst>
                        <p:cond delay="0"/>
                      </p:stCondLst>
                      <p:childTnLst>
                        <p:par>
                          <p:cTn id="1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7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3" dur="10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9" dur="100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6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8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2" dur="1000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8" dur="1000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4" dur="1000"/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4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1000" fill="hold"/>
                                        <p:tgtEl>
                                          <p:spTgt spid="5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5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0" dur="1000"/>
                                        <p:tgtEl>
                                          <p:spTgt spid="5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610920" y="5011200"/>
            <a:ext cx="7993080" cy="15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quanto patiremo per la causa di Di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sarà egualmente trasform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in gioia nella vita ete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Rectangle 4"/>
          <p:cNvSpPr/>
          <p:nvPr/>
        </p:nvSpPr>
        <p:spPr>
          <a:xfrm>
            <a:off x="1403280" y="404640"/>
            <a:ext cx="684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L’essere beati non consi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nella persecuzione in s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5"/>
          <p:cNvSpPr/>
          <p:nvPr/>
        </p:nvSpPr>
        <p:spPr>
          <a:xfrm>
            <a:off x="539640" y="1557360"/>
            <a:ext cx="81360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66"/>
                </a:solidFill>
                <a:latin typeface="Verdana"/>
              </a:rPr>
              <a:t>ma nel fatto che si è fel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66"/>
                </a:solidFill>
                <a:latin typeface="Verdana"/>
              </a:rPr>
              <a:t>perché si sa che si sta adempie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66"/>
                </a:solidFill>
                <a:latin typeface="Verdana"/>
              </a:rPr>
              <a:t>al progetto di giustizia di 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66"/>
                </a:solidFill>
                <a:latin typeface="Verdana"/>
              </a:rPr>
              <a:t>per gli uom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6"/>
          <p:cNvSpPr/>
          <p:nvPr/>
        </p:nvSpPr>
        <p:spPr>
          <a:xfrm>
            <a:off x="973080" y="3716280"/>
            <a:ext cx="734400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ekton Pro"/>
              </a:rPr>
              <a:t>Dio non chiede di gioire della sofferenz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ekton Pro"/>
              </a:rPr>
              <a:t>ma chiede di credere nella Sua parol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ekton Pro"/>
              </a:rPr>
              <a:t>che ci d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1" dur="indefinite" restart="never" nodeType="tmRoot">
          <p:childTnLst>
            <p:seq>
              <p:cTn id="1492" dur="indefinite" nodeType="mainSeq">
                <p:childTnLst>
                  <p:par>
                    <p:cTn id="1493" nodeType="clickEffect" fill="hold">
                      <p:stCondLst>
                        <p:cond delay="0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3" dur="8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4" dur="8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8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8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2" dur="8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3" dur="8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8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8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1" dur="8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2" dur="8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8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8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0" dur="800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1" dur="8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8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8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2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nodeType="afterEffect" fill="hold">
                            <p:stCondLst>
                              <p:cond delay="9850"/>
                            </p:stCondLst>
                            <p:childTnLst>
                              <p:par>
                                <p:cTn id="154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1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8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nodeType="afterEffect" fill="hold">
                            <p:stCondLst>
                              <p:cond delay="10850"/>
                            </p:stCondLst>
                            <p:childTnLst>
                              <p:par>
                                <p:cTn id="155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10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10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4" dur="10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nodeType="afterEffect" fill="hold">
                            <p:stCondLst>
                              <p:cond delay="11850"/>
                            </p:stCondLst>
                            <p:childTnLst>
                              <p:par>
                                <p:cTn id="15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10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10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0" dur="10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108000" y="765000"/>
            <a:ext cx="8642160" cy="53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a causa della giustiz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ossia della </a:t>
            </a:r>
            <a:r>
              <a:rPr b="1" lang="it-IT" sz="3200" spc="-1" strike="noStrike">
                <a:solidFill>
                  <a:srgbClr val="ffff66"/>
                </a:solidFill>
                <a:latin typeface="Calibri"/>
              </a:rPr>
              <a:t>salvezza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e del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it-IT" sz="3200" spc="-1" strike="noStrike">
                <a:solidFill>
                  <a:srgbClr val="ffff66"/>
                </a:solidFill>
                <a:latin typeface="Calibri"/>
              </a:rPr>
              <a:t>santificazione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degli </a:t>
            </a:r>
            <a:r>
              <a:rPr b="1" lang="it-IT" sz="3200" spc="-1" strike="noStrike">
                <a:solidFill>
                  <a:srgbClr val="ffff66"/>
                </a:solidFill>
                <a:latin typeface="Calibri"/>
              </a:rPr>
              <a:t>uomi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è la </a:t>
            </a:r>
            <a:r>
              <a:rPr b="1" lang="it-IT" sz="3200" spc="-1" strike="noStrike" u="sng">
                <a:solidFill>
                  <a:srgbClr val="ffff66"/>
                </a:solidFill>
                <a:uFillTx/>
                <a:latin typeface="Calibri"/>
              </a:rPr>
              <a:t>causa stessa di Cristo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Calibri"/>
              </a:rPr>
              <a:t>si è incarnat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Calibri"/>
              </a:rPr>
              <a:t>ha vissuto la sua passione e la sua mor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400" spc="-1" strike="noStrike" u="sng">
                <a:solidFill>
                  <a:srgbClr val="000000"/>
                </a:solidFill>
                <a:uFillTx/>
                <a:latin typeface="Tekton Pro"/>
              </a:rPr>
              <a:t>per gli uomi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nodeType="clickEffect" fill="hold">
                      <p:stCondLst>
                        <p:cond delay="0"/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7" dur="8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8" dur="8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9" dur="8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15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3" dur="8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4" dur="8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5" dur="8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15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9" dur="80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0" dur="80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1" dur="80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nodeType="afterEffect" fill="hold">
                            <p:stCondLst>
                              <p:cond delay="2920"/>
                            </p:stCondLst>
                            <p:childTnLst>
                              <p:par>
                                <p:cTn id="15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5" dur="80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6" dur="80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7" dur="80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nodeType="afterEffect" fill="hold">
                            <p:stCondLst>
                              <p:cond delay="3880"/>
                            </p:stCondLst>
                            <p:childTnLst>
                              <p:par>
                                <p:cTn id="15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1" dur="80"/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2" dur="80"/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3" dur="80"/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nodeType="afterEffect" fill="hold">
                            <p:stCondLst>
                              <p:cond delay="4440"/>
                            </p:stCondLst>
                            <p:childTnLst>
                              <p:par>
                                <p:cTn id="15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7" dur="80"/>
                                        <p:tgtEl>
                                          <p:spTgt spid="5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8" dur="80"/>
                                        <p:tgtEl>
                                          <p:spTgt spid="5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9" dur="80"/>
                                        <p:tgtEl>
                                          <p:spTgt spid="5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6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3" dur="80"/>
                                        <p:tgtEl>
                                          <p:spTgt spid="5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4" dur="80"/>
                                        <p:tgtEl>
                                          <p:spTgt spid="5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5" dur="80"/>
                                        <p:tgtEl>
                                          <p:spTgt spid="5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90680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e è vero che u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imile condot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ff66"/>
                </a:solidFill>
                <a:latin typeface="Calibri"/>
              </a:rPr>
              <a:t>indu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molti </a:t>
            </a:r>
            <a:r>
              <a:rPr b="1" lang="it-IT" sz="3200" spc="-1" strike="noStrike">
                <a:solidFill>
                  <a:srgbClr val="ffff66"/>
                </a:solidFill>
                <a:latin typeface="Calibri"/>
              </a:rPr>
              <a:t>al bene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4140360" y="3213000"/>
            <a:ext cx="46083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è inevitabile 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susciti la </a:t>
            </a:r>
            <a:r>
              <a:rPr b="1" lang="it-IT" sz="3200" spc="-1" strike="noStrike">
                <a:solidFill>
                  <a:srgbClr val="ffff66"/>
                </a:solidFill>
                <a:latin typeface="Verdana"/>
              </a:rPr>
              <a:t>re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ff66"/>
                </a:solidFill>
                <a:latin typeface="Verdana"/>
              </a:rPr>
              <a:t>del male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che si pres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con la </a:t>
            </a:r>
            <a:r>
              <a:rPr b="1" lang="it-IT" sz="3200" spc="-1" strike="noStrike">
                <a:solidFill>
                  <a:srgbClr val="ffff66"/>
                </a:solidFill>
                <a:latin typeface="Verdana"/>
              </a:rPr>
              <a:t>viole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it-IT" sz="3200" spc="-1" strike="noStrike">
                <a:solidFill>
                  <a:srgbClr val="ffff66"/>
                </a:solidFill>
                <a:latin typeface="Papyrus"/>
              </a:rPr>
              <a:t>persecuzioni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6" dur="indefinite" restart="never" nodeType="tmRoot">
          <p:childTnLst>
            <p:seq>
              <p:cTn id="1607" dur="indefinite" nodeType="mainSeq">
                <p:childTnLst>
                  <p:par>
                    <p:cTn id="1608" nodeType="clickEffect" fill="hold">
                      <p:stCondLst>
                        <p:cond delay="0"/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5" dur="1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6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2" dur="10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6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6" dur="10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9" dur="10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10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10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6" dur="1000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nodeType="afterEffect" fill="hold">
                            <p:stCondLst>
                              <p:cond delay="6050"/>
                            </p:stCondLst>
                            <p:childTnLst>
                              <p:par>
                                <p:cTn id="16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0" dur="8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1" dur="8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8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8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16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80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0" dur="8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8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8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nodeType="afterEffect" fill="hold">
                            <p:stCondLst>
                              <p:cond delay="8050"/>
                            </p:stCondLst>
                            <p:childTnLst>
                              <p:par>
                                <p:cTn id="16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8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9" dur="8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8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8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4" nodeType="afterEffect" fill="hold">
                            <p:stCondLst>
                              <p:cond delay="9050"/>
                            </p:stCondLst>
                            <p:childTnLst>
                              <p:par>
                                <p:cTn id="16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7" dur="800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8" dur="8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8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8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nodeType="afterEffect" fill="hold">
                            <p:stCondLst>
                              <p:cond delay="10050"/>
                            </p:stCondLst>
                            <p:childTnLst>
                              <p:par>
                                <p:cTn id="16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6" dur="800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7" dur="8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8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8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nodeType="afterEffect" fill="hold">
                            <p:stCondLst>
                              <p:cond delay="11050"/>
                            </p:stCondLst>
                            <p:childTnLst>
                              <p:par>
                                <p:cTn id="16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5" dur="800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6" dur="800" fill="hold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800" fill="hold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800" fill="hold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457200" y="174456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66"/>
                </a:solidFill>
                <a:latin typeface="Calibri"/>
              </a:rPr>
              <a:t>Sono beati i perseguitati quan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66"/>
                </a:solidFill>
                <a:latin typeface="Calibri"/>
              </a:rPr>
              <a:t>trovano </a:t>
            </a:r>
            <a:r>
              <a:rPr b="0" lang="it-IT" sz="3200" spc="-1" strike="noStrike" u="sng">
                <a:solidFill>
                  <a:srgbClr val="ffff66"/>
                </a:solidFill>
                <a:uFillTx/>
                <a:latin typeface="Calibri"/>
              </a:rPr>
              <a:t>nella persecuzi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66"/>
                </a:solidFill>
                <a:latin typeface="Calibri"/>
              </a:rPr>
              <a:t>la </a:t>
            </a:r>
            <a:r>
              <a:rPr b="0" lang="it-IT" sz="3200" spc="-1" strike="noStrike" u="sng">
                <a:solidFill>
                  <a:srgbClr val="ffff66"/>
                </a:solidFill>
                <a:uFillTx/>
                <a:latin typeface="Calibri"/>
              </a:rPr>
              <a:t>certez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66"/>
                </a:solidFill>
                <a:latin typeface="Calibri"/>
              </a:rPr>
              <a:t>che stanno percorren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66"/>
                </a:solidFill>
                <a:latin typeface="Calibri"/>
              </a:rPr>
              <a:t>la </a:t>
            </a:r>
            <a:r>
              <a:rPr b="0" lang="it-IT" sz="3200" spc="-1" strike="noStrike" u="sng">
                <a:solidFill>
                  <a:srgbClr val="ffff66"/>
                </a:solidFill>
                <a:uFillTx/>
                <a:latin typeface="Calibri"/>
              </a:rPr>
              <a:t>strada gius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91" dur="indefinite" restart="never" nodeType="tmRoot">
          <p:childTnLst>
            <p:seq>
              <p:cTn id="1692" dur="indefinite" nodeType="mainSeq">
                <p:childTnLst>
                  <p:par>
                    <p:cTn id="1693" nodeType="clickEffect" fill="hold">
                      <p:stCondLst>
                        <p:cond delay="0"/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96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97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98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1700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01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02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03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06" dur="5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07" dur="5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08" dur="5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1710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11" dur="500" fill="hold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12" dur="500" fill="hold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13" dur="500" fill="hold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nodeType="afterEffect" fill="hold">
                            <p:stCondLst>
                              <p:cond delay="3560"/>
                            </p:stCondLst>
                            <p:childTnLst>
                              <p:par>
                                <p:cTn id="171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16" dur="5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17" dur="5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18" dur="5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Calibri"/>
              </a:rPr>
              <a:t>Il messaggio di salvezza è imperniato sulla CRO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ffff66"/>
                </a:solidFill>
                <a:latin typeface="Calibri"/>
              </a:rPr>
              <a:t>chi lo annuncia e chi lo riceve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, deve essere </a:t>
            </a:r>
            <a:r>
              <a:rPr b="0" lang="it-IT" sz="3200" spc="-1" strike="noStrike">
                <a:solidFill>
                  <a:srgbClr val="ffff66"/>
                </a:solidFill>
                <a:latin typeface="Calibri"/>
              </a:rPr>
              <a:t>pronto a lasciarsi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oltraggiare, calunniare, “</a:t>
            </a:r>
            <a:r>
              <a:rPr b="0" lang="it-IT" sz="3200" spc="-1" strike="noStrike">
                <a:solidFill>
                  <a:srgbClr val="ffff66"/>
                </a:solidFill>
                <a:latin typeface="Calibri"/>
              </a:rPr>
              <a:t>CROCIFIGGERE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it-IT" sz="3200" spc="-1" strike="noStrike">
                <a:solidFill>
                  <a:srgbClr val="ffff66"/>
                </a:solidFill>
                <a:latin typeface="Calibri"/>
              </a:rPr>
              <a:t>persecuzione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è l’</a:t>
            </a:r>
            <a:r>
              <a:rPr b="1" lang="it-IT" sz="3200" spc="-1" strike="noStrike">
                <a:solidFill>
                  <a:srgbClr val="ffff66"/>
                </a:solidFill>
                <a:latin typeface="Calibri"/>
              </a:rPr>
              <a:t>eredità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che </a:t>
            </a:r>
            <a:r>
              <a:rPr b="1" lang="it-IT" sz="3200" spc="-1" strike="noStrike">
                <a:solidFill>
                  <a:srgbClr val="ffff66"/>
                </a:solidFill>
                <a:latin typeface="Calibri"/>
              </a:rPr>
              <a:t>Gesù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lascia ai suoi discepoli, il segno che autentica la loro chiamata, ma è </a:t>
            </a:r>
            <a:r>
              <a:rPr b="0" lang="it-IT" sz="3200" spc="-1" strike="noStrike" u="sng">
                <a:solidFill>
                  <a:srgbClr val="ffff66"/>
                </a:solidFill>
                <a:uFillTx/>
                <a:latin typeface="Calibri"/>
              </a:rPr>
              <a:t>anche la via per conseguire la felicit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19" dur="indefinite" restart="never" nodeType="tmRoot">
          <p:childTnLst>
            <p:seq>
              <p:cTn id="1720" dur="indefinite" nodeType="mainSeq">
                <p:childTnLst>
                  <p:par>
                    <p:cTn id="1721" nodeType="clickEffect" fill="hold">
                      <p:stCondLst>
                        <p:cond delay="0"/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5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2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3" nodeType="afterEffect" fill="hold">
                            <p:stCondLst>
                              <p:cond delay="7450"/>
                            </p:stCondLst>
                            <p:childTnLst>
                              <p:par>
                                <p:cTn id="17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9" dur="10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Le </a:t>
            </a:r>
            <a:r>
              <a:rPr b="1" lang="it-IT" sz="3600" spc="-1" strike="noStrike">
                <a:solidFill>
                  <a:srgbClr val="ffff66"/>
                </a:solidFill>
                <a:latin typeface="Calibri"/>
              </a:rPr>
              <a:t>BEATITUDINI</a:t>
            </a: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 costituisco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it-IT" sz="3600" spc="-1" strike="noStrike">
                <a:solidFill>
                  <a:srgbClr val="ff0000"/>
                </a:solidFill>
                <a:latin typeface="Calibri"/>
              </a:rPr>
              <a:t>sintesi di tutto il Vangelo</a:t>
            </a: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ndicano una </a:t>
            </a:r>
            <a:r>
              <a:rPr b="1" lang="it-IT" sz="2800" spc="-1" strike="noStrike">
                <a:solidFill>
                  <a:srgbClr val="ffff66"/>
                </a:solidFill>
                <a:latin typeface="Calibri"/>
              </a:rPr>
              <a:t>nuova rotta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di navigazione nel mare della vita, ed è rivolta all’uomo di ogni tem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4"/>
          <p:cNvSpPr/>
          <p:nvPr/>
        </p:nvSpPr>
        <p:spPr>
          <a:xfrm>
            <a:off x="0" y="3429000"/>
            <a:ext cx="88930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Gesù con le beatitudini ci indica che </a:t>
            </a:r>
            <a:r>
              <a:rPr b="0" lang="it-IT" sz="2800" spc="-1" strike="noStrike" u="sng">
                <a:solidFill>
                  <a:srgbClr val="ff0000"/>
                </a:solidFill>
                <a:uFillTx/>
                <a:latin typeface="Verdana"/>
              </a:rPr>
              <a:t>Dio è all’opera con la sua compassione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, attento al pianto, alla povertà, alla fame e all’ingiustiz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Il punto principale di questo annuncio è che </a:t>
            </a:r>
            <a:r>
              <a:rPr b="1" lang="it-IT" sz="3200" spc="-1" strike="noStrike">
                <a:solidFill>
                  <a:srgbClr val="ffff66"/>
                </a:solidFill>
                <a:latin typeface="Verdana"/>
              </a:rPr>
              <a:t>DIO È PAD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0" dur="indefinite" restart="never" nodeType="tmRoot">
          <p:childTnLst>
            <p:seq>
              <p:cTn id="1741" dur="indefinite" nodeType="mainSeq">
                <p:childTnLst>
                  <p:par>
                    <p:cTn id="1742" nodeType="clickEffect" fill="hold">
                      <p:stCondLst>
                        <p:cond delay="0"/>
                      </p:stCondLst>
                      <p:childTnLst>
                        <p:par>
                          <p:cTn id="1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6" dur="8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7" dur="8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8" dur="8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nodeType="afterEffect" fill="hold">
                            <p:stCondLst>
                              <p:cond delay="1080"/>
                            </p:stCondLst>
                            <p:childTnLst>
                              <p:par>
                                <p:cTn id="17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2" dur="8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3" dur="8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4" dur="8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nodeType="afterEffect" fill="hold">
                            <p:stCondLst>
                              <p:cond delay="2160"/>
                            </p:stCondLst>
                            <p:childTnLst>
                              <p:par>
                                <p:cTn id="17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8" dur="8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9" dur="8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0" dur="8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762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Calibri"/>
              </a:rPr>
              <a:t>Per Dio la vita di ogni creatura è preziosa come quella di un figli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2138400"/>
            <a:ext cx="3394080" cy="26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ekton Pro"/>
              </a:rPr>
              <a:t>I cristiani so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ekton Pro"/>
              </a:rPr>
              <a:t>chiamati ad ess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ekton Pro"/>
              </a:rPr>
              <a:t>“</a:t>
            </a:r>
            <a:r>
              <a:rPr b="0" lang="it-IT" sz="3200" spc="-1" strike="noStrike">
                <a:solidFill>
                  <a:srgbClr val="000000"/>
                </a:solidFill>
                <a:latin typeface="Tekton Pro"/>
              </a:rPr>
              <a:t>un popo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ekton Pro"/>
              </a:rPr>
              <a:t>umile e povero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4716360" y="3068640"/>
            <a:ext cx="33847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Papyrus"/>
              </a:rPr>
              <a:t>la </a:t>
            </a:r>
            <a:r>
              <a:rPr b="1" lang="it-IT" sz="3200" spc="-1" strike="noStrike">
                <a:solidFill>
                  <a:srgbClr val="ffff66"/>
                </a:solidFill>
                <a:latin typeface="Papyrus"/>
              </a:rPr>
              <a:t>loro presenza</a:t>
            </a:r>
            <a:r>
              <a:rPr b="0" lang="it-IT" sz="3200" spc="-1" strike="noStrike">
                <a:solidFill>
                  <a:srgbClr val="000000"/>
                </a:solidFill>
                <a:latin typeface="Papyrus"/>
              </a:rPr>
              <a:t> deve essere una </a:t>
            </a:r>
            <a:r>
              <a:rPr b="1" lang="it-IT" sz="3200" spc="-1" strike="noStrike">
                <a:solidFill>
                  <a:srgbClr val="ffff66"/>
                </a:solidFill>
                <a:latin typeface="Papyrus"/>
              </a:rPr>
              <a:t>testimonianza</a:t>
            </a:r>
            <a:r>
              <a:rPr b="0" lang="it-IT" sz="3200" spc="-1" strike="noStrike">
                <a:solidFill>
                  <a:srgbClr val="000000"/>
                </a:solidFill>
                <a:latin typeface="Papyrus"/>
              </a:rPr>
              <a:t> della </a:t>
            </a:r>
            <a:r>
              <a:rPr b="1" lang="it-IT" sz="3200" spc="-1" strike="noStrike">
                <a:solidFill>
                  <a:srgbClr val="ffff66"/>
                </a:solidFill>
                <a:latin typeface="Papyrus"/>
              </a:rPr>
              <a:t>presenza</a:t>
            </a:r>
            <a:r>
              <a:rPr b="0" lang="it-IT" sz="3200" spc="-1" strike="noStrike">
                <a:solidFill>
                  <a:srgbClr val="000000"/>
                </a:solidFill>
                <a:latin typeface="Papyrus"/>
              </a:rPr>
              <a:t> di </a:t>
            </a:r>
            <a:r>
              <a:rPr b="1" lang="it-IT" sz="3200" spc="-1" strike="noStrike">
                <a:solidFill>
                  <a:srgbClr val="ffff66"/>
                </a:solidFill>
                <a:latin typeface="Papyrus"/>
              </a:rPr>
              <a:t>Dio</a:t>
            </a:r>
            <a:r>
              <a:rPr b="0" lang="it-IT" sz="3200" spc="-1" strike="noStrike">
                <a:solidFill>
                  <a:srgbClr val="000000"/>
                </a:solidFill>
                <a:latin typeface="Papyrus"/>
              </a:rPr>
              <a:t> </a:t>
            </a:r>
            <a:r>
              <a:rPr b="1" lang="it-IT" sz="3200" spc="-1" strike="noStrike">
                <a:solidFill>
                  <a:srgbClr val="ffff66"/>
                </a:solidFill>
                <a:latin typeface="Papyrus"/>
              </a:rPr>
              <a:t>in mezzo agli uom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6" dur="indefinite" restart="never" nodeType="tmRoot">
          <p:childTnLst>
            <p:seq>
              <p:cTn id="1767" dur="indefinite" nodeType="mainSeq">
                <p:childTnLst>
                  <p:par>
                    <p:cTn id="1768" nodeType="clickEffect" fill="hold">
                      <p:stCondLst>
                        <p:cond delay="0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7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7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7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7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77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1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1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1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2" dur="10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3" nodeType="afterEffect" fill="hold">
                            <p:stCondLst>
                              <p:cond delay="4850"/>
                            </p:stCondLst>
                            <p:childTnLst>
                              <p:par>
                                <p:cTn id="17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6" dur="10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10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10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9" dur="10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79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3" dur="10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10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10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6" dur="10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0" dur="1000" fill="hold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1000" fill="hold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1000" fill="hold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3" dur="1000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4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1805" nodeType="after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0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80000" y="274680"/>
            <a:ext cx="490680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Gesù ci invita a realizzare nella nostra vita le </a:t>
            </a:r>
            <a:r>
              <a:rPr b="1" lang="it-IT" sz="4400" spc="-1" strike="noStrike">
                <a:solidFill>
                  <a:srgbClr val="ff0000"/>
                </a:solidFill>
                <a:latin typeface="Calibri"/>
              </a:rPr>
              <a:t>beatitudi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190656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6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a pagina delle beatitudini è un </a:t>
            </a: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invito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guardare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quali sentieri Gesù apre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davanti a noi, quali sono le vie che Egli ci indica (</a:t>
            </a:r>
            <a:r>
              <a:rPr b="0" lang="it-IT" sz="2800" spc="-1" strike="noStrike">
                <a:solidFill>
                  <a:srgbClr val="000000"/>
                </a:solidFill>
                <a:latin typeface="Papyrus"/>
              </a:rPr>
              <a:t>“le istruzioni per la vita”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), le stesse strade che Lui ha percorso nei giorni della Sua vita terr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1620720" y="3070080"/>
            <a:ext cx="597564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ekton Pro"/>
              </a:rPr>
              <a:t>Ges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ekton Pro"/>
              </a:rPr>
              <a:t>con le </a:t>
            </a:r>
            <a:r>
              <a:rPr b="1" lang="it-IT" sz="3200" spc="-1" strike="noStrike">
                <a:solidFill>
                  <a:srgbClr val="ff0000"/>
                </a:solidFill>
                <a:latin typeface="Tekton Pro"/>
              </a:rPr>
              <a:t>beatitudini</a:t>
            </a:r>
            <a:r>
              <a:rPr b="0" lang="it-IT" sz="3200" spc="-1" strike="noStrike">
                <a:solidFill>
                  <a:srgbClr val="000000"/>
                </a:solidFill>
                <a:latin typeface="Tekton Pro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ekton Pro"/>
              </a:rPr>
              <a:t>indica all’uomo infelice e delu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ekton Pro"/>
              </a:rPr>
              <a:t>la </a:t>
            </a:r>
            <a:r>
              <a:rPr b="1" lang="it-IT" sz="3200" spc="-1" strike="noStrike">
                <a:solidFill>
                  <a:srgbClr val="ff0000"/>
                </a:solidFill>
                <a:latin typeface="Tekton Pro"/>
              </a:rPr>
              <a:t>via</a:t>
            </a:r>
            <a:r>
              <a:rPr b="0" lang="it-IT" sz="3200" spc="-1" strike="noStrike">
                <a:solidFill>
                  <a:srgbClr val="000000"/>
                </a:solidFill>
                <a:latin typeface="Tekton Pro"/>
              </a:rPr>
              <a:t> della libertà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ekton Pro"/>
              </a:rPr>
              <a:t>della pace e della gioi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ekton Pro"/>
              </a:rPr>
              <a:t>in una par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Tekton Pro"/>
              </a:rPr>
              <a:t>DELLA FELIC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2" dur="indefinite" restart="never" nodeType="tmRoot">
          <p:childTnLst>
            <p:seq>
              <p:cTn id="1813" dur="indefinite" nodeType="mainSeq">
                <p:childTnLst>
                  <p:par>
                    <p:cTn id="1814" nodeType="clickEffect" fill="hold">
                      <p:stCondLst>
                        <p:cond delay="0"/>
                      </p:stCondLst>
                      <p:childTnLst>
                        <p:par>
                          <p:cTn id="1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8" dur="8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9" dur="8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0" dur="8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nodeType="afterEffect" fill="hold">
                            <p:stCondLst>
                              <p:cond delay="7560"/>
                            </p:stCondLst>
                            <p:childTnLst>
                              <p:par>
                                <p:cTn id="18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nodeType="afterEffect" fill="hold">
                            <p:stCondLst>
                              <p:cond delay="9560"/>
                            </p:stCondLst>
                            <p:childTnLst>
                              <p:par>
                                <p:cTn id="18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5" nodeType="afterEffect" fill="hold">
                            <p:stCondLst>
                              <p:cond delay="11560"/>
                            </p:stCondLst>
                            <p:childTnLst>
                              <p:par>
                                <p:cTn id="18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nodeType="afterEffect" fill="hold">
                            <p:stCondLst>
                              <p:cond delay="13560"/>
                            </p:stCondLst>
                            <p:childTnLst>
                              <p:par>
                                <p:cTn id="18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9" nodeType="afterEffect" fill="hold">
                            <p:stCondLst>
                              <p:cond delay="15560"/>
                            </p:stCondLst>
                            <p:childTnLst>
                              <p:par>
                                <p:cTn id="18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6" nodeType="afterEffect" fill="hold">
                            <p:stCondLst>
                              <p:cond delay="17560"/>
                            </p:stCondLst>
                            <p:childTnLst>
                              <p:par>
                                <p:cTn id="19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3" nodeType="afterEffect" fill="hold">
                            <p:stCondLst>
                              <p:cond delay="19560"/>
                            </p:stCondLst>
                            <p:childTnLst>
                              <p:par>
                                <p:cTn id="19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08520" indent="0" algn="ctr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Ges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dal monte delle beatitudi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e dal Calv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i chiama a d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una </a:t>
            </a:r>
            <a:r>
              <a:rPr b="1" lang="it-IT" sz="2800" spc="-1" strike="noStrike">
                <a:solidFill>
                  <a:srgbClr val="ffff66"/>
                </a:solidFill>
                <a:latin typeface="Calibri"/>
              </a:rPr>
              <a:t>risposta tot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di </a:t>
            </a:r>
            <a:r>
              <a:rPr b="1" lang="it-IT" sz="2800" spc="-1" strike="noStrike">
                <a:solidFill>
                  <a:srgbClr val="ffff66"/>
                </a:solidFill>
                <a:latin typeface="Calibri"/>
              </a:rPr>
              <a:t>amore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e di </a:t>
            </a:r>
            <a:r>
              <a:rPr b="1" lang="it-IT" sz="2800" spc="-1" strike="noStrike">
                <a:solidFill>
                  <a:srgbClr val="ffff66"/>
                </a:solidFill>
                <a:latin typeface="Calibri"/>
              </a:rPr>
              <a:t>impeg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611280" y="3357720"/>
            <a:ext cx="82296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Atte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da ciascuno di n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na </a:t>
            </a:r>
            <a:r>
              <a:rPr b="1" lang="it-IT" sz="2800" spc="-1" strike="noStrike">
                <a:solidFill>
                  <a:srgbClr val="ffff66"/>
                </a:solidFill>
                <a:latin typeface="Verdana"/>
              </a:rPr>
              <a:t>risposta lib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e </a:t>
            </a:r>
            <a:r>
              <a:rPr b="1" lang="it-IT" sz="2800" spc="-1" strike="noStrike">
                <a:solidFill>
                  <a:srgbClr val="ffff66"/>
                </a:solidFill>
                <a:latin typeface="Verdana"/>
              </a:rPr>
              <a:t>pers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di </a:t>
            </a:r>
            <a:r>
              <a:rPr b="1" lang="it-IT" sz="2800" spc="-1" strike="noStrike">
                <a:solidFill>
                  <a:srgbClr val="ffff66"/>
                </a:solidFill>
                <a:latin typeface="Verdana"/>
              </a:rPr>
              <a:t>testimonianza credi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al Suo Vang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0" dur="indefinite" restart="never" nodeType="tmRoot">
          <p:childTnLst>
            <p:seq>
              <p:cTn id="1941" dur="indefinite" nodeType="mainSeq">
                <p:childTnLst>
                  <p:par>
                    <p:cTn id="1942" nodeType="clickEffect" fill="hold">
                      <p:stCondLst>
                        <p:cond delay="0"/>
                      </p:stCondLst>
                      <p:childTnLst>
                        <p:par>
                          <p:cTn id="1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6" dur="8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7" dur="8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8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8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5" dur="8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6" dur="8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8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8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4" dur="8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5" dur="8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8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8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3" dur="800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4" dur="8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8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8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2" dur="800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3" dur="8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8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8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1" dur="800"/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2" dur="800" fill="hold"/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800" fill="hold"/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800" fill="hold"/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0" dur="2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1" dur="2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2" dur="2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2004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6" dur="2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7" dur="2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8" dur="2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9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2010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2" dur="2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3" dur="2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4" dur="2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5" nodeType="afterEffect" fill="hold">
                            <p:stCondLst>
                              <p:cond delay="16200"/>
                            </p:stCondLst>
                            <p:childTnLst>
                              <p:par>
                                <p:cTn id="2016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8" dur="2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9" dur="2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0" dur="2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1" nodeType="afterEffect" fill="hold">
                            <p:stCondLst>
                              <p:cond delay="19300"/>
                            </p:stCondLst>
                            <p:childTnLst>
                              <p:par>
                                <p:cTn id="2022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4" dur="200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5" dur="200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6" dur="200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7" nodeType="afterEffect" fill="hold">
                            <p:stCondLst>
                              <p:cond delay="23800"/>
                            </p:stCondLst>
                            <p:childTnLst>
                              <p:par>
                                <p:cTn id="202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0" dur="200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1" dur="200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2" dur="200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8785440" cy="24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Gesù rivolge le beatitudini </a:t>
            </a:r>
            <a:r>
              <a:rPr b="1" lang="it-IT" sz="2800" spc="-1" strike="noStrike">
                <a:solidFill>
                  <a:srgbClr val="000000"/>
                </a:solidFill>
                <a:latin typeface="Lucida Calligraphy"/>
              </a:rPr>
              <a:t>al popolo semplice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Calibri"/>
              </a:rPr>
              <a:t>i pove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Calibri"/>
              </a:rPr>
              <a:t>gli oppress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Calibri"/>
              </a:rPr>
              <a:t>gli indifes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Calibri"/>
              </a:rPr>
              <a:t>gli emargina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395280" y="3718080"/>
            <a:ext cx="84247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gli procl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l </a:t>
            </a:r>
            <a:r>
              <a:rPr b="1" lang="it-IT" sz="2400" spc="-1" strike="noStrike">
                <a:solidFill>
                  <a:srgbClr val="ffff66"/>
                </a:solidFill>
                <a:latin typeface="Verdana"/>
              </a:rPr>
              <a:t>lieto annun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ella </a:t>
            </a:r>
            <a:r>
              <a:rPr b="1" lang="it-IT" sz="2400" spc="-1" strike="noStrike">
                <a:solidFill>
                  <a:srgbClr val="ffff66"/>
                </a:solidFill>
                <a:latin typeface="Verdana"/>
              </a:rPr>
              <a:t>venut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imminente del </a:t>
            </a:r>
            <a:r>
              <a:rPr b="1" lang="it-IT" sz="2400" spc="-1" strike="noStrike">
                <a:solidFill>
                  <a:srgbClr val="ffff66"/>
                </a:solidFill>
                <a:latin typeface="Verdana"/>
              </a:rPr>
              <a:t>Regn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roclama che </a:t>
            </a:r>
            <a:r>
              <a:rPr b="1" lang="it-IT" sz="2400" spc="-1" strike="noStrike">
                <a:solidFill>
                  <a:srgbClr val="ffff66"/>
                </a:solidFill>
                <a:latin typeface="Verdana"/>
              </a:rPr>
              <a:t>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Verdana"/>
              </a:rPr>
              <a:t>sta per interven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nella s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Verdan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sta per </a:t>
            </a:r>
            <a:r>
              <a:rPr b="1" lang="it-IT" sz="2400" spc="-1" strike="noStrike">
                <a:solidFill>
                  <a:srgbClr val="ffff66"/>
                </a:solidFill>
                <a:latin typeface="Verdana"/>
              </a:rPr>
              <a:t>rendere giustiz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3" dur="indefinite" restart="never" nodeType="tmRoot">
          <p:childTnLst>
            <p:seq>
              <p:cTn id="2034" dur="indefinite" nodeType="mainSeq">
                <p:childTnLst>
                  <p:par>
                    <p:cTn id="2035" nodeType="clickEffect" fill="hold">
                      <p:stCondLst>
                        <p:cond delay="0"/>
                      </p:stCondLst>
                      <p:childTnLst>
                        <p:par>
                          <p:cTn id="2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9" dur="10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10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10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2" dur="10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6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9" dur="10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0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20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3" dur="10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10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6" dur="10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7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20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0" dur="1000" fill="hold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1000" fill="hold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1000" fill="hold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3" dur="10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20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1000" fill="hold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1000" fill="hold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1000" fill="hold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0" dur="1000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1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2072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4" dur="2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5" dur="2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6" dur="2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7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20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0" dur="2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1" dur="2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2" dur="2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3" nodeType="afterEffect" fill="hold">
                            <p:stCondLst>
                              <p:cond delay="13800"/>
                            </p:stCondLst>
                            <p:childTnLst>
                              <p:par>
                                <p:cTn id="20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6" dur="200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7" dur="200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8" dur="200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9" nodeType="afterEffect" fill="hold">
                            <p:stCondLst>
                              <p:cond delay="16800"/>
                            </p:stCondLst>
                            <p:childTnLst>
                              <p:par>
                                <p:cTn id="20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2" dur="20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3" dur="20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4" dur="20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5" nodeType="afterEffect" fill="hold">
                            <p:stCondLst>
                              <p:cond delay="18300"/>
                            </p:stCondLst>
                            <p:childTnLst>
                              <p:par>
                                <p:cTn id="20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8" dur="200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9" dur="200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0" dur="200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1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2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4" dur="200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5" dur="200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6" dur="200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nodeType="afterEffect" fill="hold">
                            <p:stCondLst>
                              <p:cond delay="21300"/>
                            </p:stCondLst>
                            <p:childTnLst>
                              <p:par>
                                <p:cTn id="21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0" dur="200"/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1" dur="200"/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2" dur="200"/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2195640" y="475920"/>
            <a:ext cx="51940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it-IT" sz="2800" spc="-1" strike="noStrike">
                <a:solidFill>
                  <a:srgbClr val="ffff66"/>
                </a:solidFill>
                <a:latin typeface="Calibri"/>
              </a:rPr>
              <a:t>Non vuole esalt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Calibri"/>
              </a:rPr>
              <a:t>la povertà e la mis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324000" y="2421000"/>
            <a:ext cx="5976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ma annuncia 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Verdana"/>
              </a:rPr>
              <a:t>Dio sta entrando in 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er togliere tutti lo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dalla loro condizione disum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4211640" y="4653000"/>
            <a:ext cx="4248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Verdana"/>
              </a:rPr>
              <a:t>È la prospet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Verdana"/>
              </a:rPr>
              <a:t>di un fut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Verdana"/>
              </a:rPr>
              <a:t>di liber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3" dur="indefinite" restart="never" nodeType="tmRoot">
          <p:childTnLst>
            <p:seq>
              <p:cTn id="2114" dur="indefinite" nodeType="mainSeq">
                <p:childTnLst>
                  <p:par>
                    <p:cTn id="2115" nodeType="clickEffect" fill="hold">
                      <p:stCondLst>
                        <p:cond delay="0"/>
                      </p:stCondLst>
                      <p:childTnLst>
                        <p:par>
                          <p:cTn id="2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9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1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4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6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8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0" dur="10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4" dur="10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8" dur="1000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2" dur="1000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4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6" dur="8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7" dur="8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8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8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me abbiamo det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l REGNO DI D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non cambia le situazio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me per inca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324000" y="2852640"/>
            <a:ext cx="82296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sono proprio le beatitudini ad indicarci la via per poter entrare nel Regno e, soprattutto, per poter </a:t>
            </a:r>
            <a:r>
              <a:rPr b="1" lang="it-IT" sz="2800" spc="-1" strike="noStrike">
                <a:solidFill>
                  <a:srgbClr val="ff0000"/>
                </a:solidFill>
                <a:latin typeface="Verdana"/>
              </a:rPr>
              <a:t>anticipare il Regno dei Cieli sulla ter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5" descr="0546"/>
          <p:cNvPicPr/>
          <p:nvPr/>
        </p:nvPicPr>
        <p:blipFill>
          <a:blip r:embed="rId1"/>
          <a:stretch/>
        </p:blipFill>
        <p:spPr>
          <a:xfrm>
            <a:off x="6912000" y="4653000"/>
            <a:ext cx="1763640" cy="189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2" dur="indefinite" restart="never" nodeType="tmRoot">
          <p:childTnLst>
            <p:seq>
              <p:cTn id="2153" dur="indefinite" nodeType="mainSeq">
                <p:childTnLst>
                  <p:par>
                    <p:cTn id="2154" nodeType="clickEffect" fill="hold">
                      <p:stCondLst>
                        <p:cond delay="0"/>
                      </p:stCondLst>
                      <p:childTnLst>
                        <p:par>
                          <p:cTn id="2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8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2" dur="5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6" dur="5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0" dur="500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2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4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7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8" nodeType="afterEffect" fill="hold">
                            <p:stCondLst>
                              <p:cond delay="9950"/>
                            </p:stCondLst>
                            <p:childTnLst>
                              <p:par>
                                <p:cTn id="2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1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Nell’</a:t>
            </a:r>
            <a:r>
              <a:rPr b="1" lang="it-IT" sz="3200" spc="-1" strike="noStrike">
                <a:solidFill>
                  <a:srgbClr val="ffff66"/>
                </a:solidFill>
                <a:latin typeface="Calibri"/>
              </a:rPr>
              <a:t>Antico Testamento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, ricordiamo i </a:t>
            </a:r>
            <a:r>
              <a:rPr b="1" lang="it-IT" sz="3200" spc="-1" strike="noStrike">
                <a:solidFill>
                  <a:srgbClr val="ffff66"/>
                </a:solidFill>
                <a:latin typeface="Calibri"/>
              </a:rPr>
              <a:t>dieci comandamenti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it-IT" sz="3200" spc="-1" strike="noStrike">
                <a:solidFill>
                  <a:srgbClr val="ffff66"/>
                </a:solidFill>
                <a:latin typeface="Calibri"/>
              </a:rPr>
              <a:t>l’accettazione dell’uomo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alla volontà di D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324000" y="4581360"/>
            <a:ext cx="81565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ekton Pro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ekton Pro"/>
              </a:rPr>
              <a:t>Egli dice non basta “NON RUBARE”, dobbiamo essere in grado di </a:t>
            </a:r>
            <a:r>
              <a:rPr b="1" lang="it-IT" sz="2800" spc="-1" strike="noStrike">
                <a:solidFill>
                  <a:srgbClr val="ffff66"/>
                </a:solidFill>
                <a:latin typeface="Tekton Pro"/>
              </a:rPr>
              <a:t>condividere</a:t>
            </a:r>
            <a:r>
              <a:rPr b="0" lang="it-IT" sz="2800" spc="-1" strike="noStrike">
                <a:solidFill>
                  <a:srgbClr val="000000"/>
                </a:solidFill>
                <a:latin typeface="Tekton Pro"/>
              </a:rPr>
              <a:t>. Il </a:t>
            </a:r>
            <a:r>
              <a:rPr b="1" lang="it-IT" sz="2800" spc="-1" strike="noStrike">
                <a:solidFill>
                  <a:srgbClr val="ffff66"/>
                </a:solidFill>
                <a:latin typeface="Tekton Pro"/>
              </a:rPr>
              <a:t>PADRE NOSTRO</a:t>
            </a:r>
            <a:r>
              <a:rPr b="0" lang="it-IT" sz="2800" spc="-1" strike="noStrike">
                <a:solidFill>
                  <a:srgbClr val="000000"/>
                </a:solidFill>
                <a:latin typeface="Tekton Pro"/>
              </a:rPr>
              <a:t> è la </a:t>
            </a:r>
            <a:r>
              <a:rPr b="0" lang="it-IT" sz="2800" spc="-1" strike="noStrike" u="sng">
                <a:solidFill>
                  <a:srgbClr val="ffff66"/>
                </a:solidFill>
                <a:uFillTx/>
                <a:latin typeface="Tekton Pro"/>
              </a:rPr>
              <a:t>forma di accettazione</a:t>
            </a:r>
            <a:r>
              <a:rPr b="0" lang="it-IT" sz="2800" spc="-1" strike="noStrike">
                <a:solidFill>
                  <a:srgbClr val="000000"/>
                </a:solidFill>
                <a:latin typeface="Tekton Pro"/>
              </a:rPr>
              <a:t> alla volontà del Padre </a:t>
            </a:r>
            <a:r>
              <a:rPr b="0" lang="it-IT" sz="2800" spc="-1" strike="noStrike" u="sng">
                <a:solidFill>
                  <a:srgbClr val="ffff66"/>
                </a:solidFill>
                <a:uFillTx/>
                <a:latin typeface="Tekton Pro"/>
              </a:rPr>
              <a:t>di noi cristi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1476360" y="2852640"/>
            <a:ext cx="6264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Verdana"/>
              </a:rPr>
              <a:t>Gesù va olt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Verdana"/>
              </a:rPr>
              <a:t>ai dieci comandament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2" dur="indefinite" restart="never" nodeType="tmRoot">
          <p:childTnLst>
            <p:seq>
              <p:cTn id="2183" dur="indefinite" nodeType="mainSeq">
                <p:childTnLst>
                  <p:par>
                    <p:cTn id="2184" nodeType="clickEffect" fill="hold">
                      <p:stCondLst>
                        <p:cond delay="0"/>
                      </p:stCondLst>
                      <p:childTnLst>
                        <p:par>
                          <p:cTn id="2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8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0" dur="10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0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2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07520" cy="64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30528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66"/>
                </a:solidFill>
                <a:latin typeface="Calibri"/>
              </a:rPr>
              <a:t>Padre Nostro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66"/>
                </a:solidFill>
                <a:latin typeface="Calibri"/>
              </a:rPr>
              <a:t>che sei nei Cieli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66"/>
                </a:solidFill>
                <a:latin typeface="Calibri"/>
              </a:rPr>
              <a:t>sia santificato il Tuo nom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66"/>
                </a:solidFill>
                <a:latin typeface="Calibri"/>
              </a:rPr>
              <a:t>venga il Tuo Regno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66"/>
                </a:solidFill>
                <a:latin typeface="Calibri"/>
              </a:rPr>
              <a:t>sia fatta la Tua volontà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66"/>
                </a:solidFill>
                <a:latin typeface="Calibri"/>
              </a:rPr>
              <a:t>come in Cielo, così in ter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66"/>
                </a:solidFill>
                <a:latin typeface="Calibri"/>
              </a:rPr>
              <a:t>Dacci oggi il nostro pane quotidiano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66"/>
                </a:solidFill>
                <a:latin typeface="Calibri"/>
              </a:rPr>
              <a:t>rimetti a noi i nostri debiti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66"/>
                </a:solidFill>
                <a:latin typeface="Calibri"/>
              </a:rPr>
              <a:t>come noi li rimettiamo ai nostri debitor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66"/>
                </a:solidFill>
                <a:latin typeface="Calibri"/>
              </a:rPr>
              <a:t>E non ci indurre in tentazion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66"/>
                </a:solidFill>
                <a:latin typeface="Calibri"/>
              </a:rPr>
              <a:t>ma liberaci dal ma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ff66"/>
                </a:solidFill>
                <a:latin typeface="Calibri"/>
              </a:rPr>
              <a:t>A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24" dur="indefinite" restart="never" nodeType="tmRoot">
          <p:childTnLst>
            <p:seq>
              <p:cTn id="2225" dur="indefinite" nodeType="mainSeq">
                <p:childTnLst>
                  <p:par>
                    <p:cTn id="2226" nodeType="clickEffect" fill="hold">
                      <p:stCondLst>
                        <p:cond delay="indefinite"/>
                      </p:stCondLst>
                      <p:childTnLst>
                        <p:par>
                          <p:cTn id="2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29" dur="3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30" dur="3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31" dur="3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232" dur="3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35" dur="3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36" dur="3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37" dur="3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238" dur="3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0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41" dur="30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42" dur="30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43" dur="30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244" dur="30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246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47" dur="30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48" dur="30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49" dur="30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250" dur="30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5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53" dur="30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54" dur="30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55" dur="30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256" dur="30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58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59" dur="30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60" dur="30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61" dur="30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262" dur="30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6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65" dur="30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66" dur="30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67" dur="30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268" dur="30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9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270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71" dur="3000" fill="hold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72" dur="3000" fill="hold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73" dur="3000" fill="hold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274" dur="3000" fill="hold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276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77" dur="3000" fill="hold"/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78" dur="3000" fill="hold"/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79" dur="3000" fill="hold"/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280" dur="3000" fill="hold"/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1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28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83" dur="3000" fill="hold"/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84" dur="3000" fill="hold"/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85" dur="3000" fill="hold"/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286" dur="3000" fill="hold"/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7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288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89" dur="3000" fill="hold"/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90" dur="3000" fill="hold"/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91" dur="3000" fill="hold"/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292" dur="3000" fill="hold"/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3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229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95" dur="3000" fill="hold"/>
                                        <p:tgtEl>
                                          <p:spTgt spid="5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96" dur="3000" fill="hold"/>
                                        <p:tgtEl>
                                          <p:spTgt spid="5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97" dur="3000" fill="hold"/>
                                        <p:tgtEl>
                                          <p:spTgt spid="5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298" dur="3000" fill="hold"/>
                                        <p:tgtEl>
                                          <p:spTgt spid="5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6"/>
          <p:cNvSpPr/>
          <p:nvPr/>
        </p:nvSpPr>
        <p:spPr>
          <a:xfrm>
            <a:off x="199548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5" descr="beatitudini"/>
          <p:cNvPicPr/>
          <p:nvPr/>
        </p:nvPicPr>
        <p:blipFill>
          <a:blip r:embed="rId1"/>
          <a:stretch/>
        </p:blipFill>
        <p:spPr>
          <a:xfrm>
            <a:off x="1676520" y="0"/>
            <a:ext cx="6933960" cy="7391520"/>
          </a:xfrm>
          <a:prstGeom prst="rect">
            <a:avLst/>
          </a:prstGeom>
          <a:ln w="0">
            <a:noFill/>
          </a:ln>
        </p:spPr>
      </p:pic>
      <p:sp>
        <p:nvSpPr>
          <p:cNvPr id="412" name="WordArt 18"/>
          <p:cNvSpPr txBox="1"/>
          <p:nvPr/>
        </p:nvSpPr>
        <p:spPr>
          <a:xfrm rot="330000">
            <a:off x="304560" y="5486400"/>
            <a:ext cx="88390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 Antiqua"/>
              </a:rPr>
              <a:t>Siamo chiamati ad essere il "popolo delle Beatitudini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123640" y="1700280"/>
            <a:ext cx="5759640" cy="29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4800" spc="-1" strike="noStrike">
                <a:solidFill>
                  <a:srgbClr val="ffff66"/>
                </a:solidFill>
                <a:latin typeface="Calibri"/>
              </a:rPr>
              <a:t>BEATI I POVERI</a:t>
            </a:r>
            <a:br>
              <a:rPr sz="4800"/>
            </a:br>
            <a:r>
              <a:rPr b="1" i="1" lang="it-IT" sz="4800" spc="-1" strike="noStrike">
                <a:solidFill>
                  <a:srgbClr val="ffff66"/>
                </a:solidFill>
                <a:latin typeface="Calibri"/>
              </a:rPr>
              <a:t>IN SPIRITO,</a:t>
            </a:r>
            <a:br>
              <a:rPr sz="4800"/>
            </a:br>
            <a:r>
              <a:rPr b="1" i="1" lang="it-IT" sz="4800" spc="-1" strike="noStrike">
                <a:solidFill>
                  <a:srgbClr val="ffff66"/>
                </a:solidFill>
                <a:latin typeface="Calibri"/>
              </a:rPr>
              <a:t>perché di essi è</a:t>
            </a:r>
            <a:br>
              <a:rPr sz="4800"/>
            </a:br>
            <a:r>
              <a:rPr b="1" i="1" lang="it-IT" sz="4800" spc="-1" strike="noStrike">
                <a:solidFill>
                  <a:srgbClr val="ffff66"/>
                </a:solidFill>
                <a:latin typeface="Calibri"/>
              </a:rPr>
              <a:t>il regno dei ciel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E51CF62B.WAV" descr=""/>
          <p:cNvPicPr/>
          <p:nvPr/>
        </p:nvPicPr>
        <p:blipFill>
          <a:blip r:embed="rId1"/>
          <a:stretch/>
        </p:blipFill>
        <p:spPr>
          <a:xfrm>
            <a:off x="8713800" y="6427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3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7" dur="2000" fill="hold"/>
                                        <p:tgtEl>
                                          <p:spTgt spid="4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gire</cp:lastModifiedBy>
  <dcterms:modified xsi:type="dcterms:W3CDTF">2016-11-30T10:52:07Z</dcterms:modified>
  <cp:revision>20</cp:revision>
  <dc:subject/>
  <dc:title>GESÙ CI HA LASCIATO UN SOLO COMANDAMENTO……</dc:title>
</cp:coreProperties>
</file>